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4.png" ContentType="image/png"/>
  <Override PartName="/ppt/media/applause.wav" ContentType="audio/x-wav"/>
  <Override PartName="/ppt/media/drumroll.wav" ContentType="audio/x-wav"/>
  <Override PartName="/ppt/media/cashreg.wav" ContentType="audio/x-wav"/>
  <Override PartName="/ppt/media/image6.png" ContentType="image/png"/>
  <Override PartName="/ppt/media/image7.png" ContentType="image/png"/>
  <Override PartName="/ppt/media/hammer.wav" ContentType="audio/x-wav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D615-230C-4C8D-A641-F902C3995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ime to go over how to find missing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explain how to use the angles learned in the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EEC97-42E1-450A-99F0-A22888F7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AAFE7-A3D6-405E-A210-08E79B2C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3A8BE-6C58-4246-B123-4202C4B1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1E11E-F810-4844-B542-61B0F8D5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042D-F67B-4466-8E4E-F1F70660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C10A-EE3B-40AE-AADC-E3A1EE85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0015-C871-4585-92BC-C40637DC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956B-C914-4814-AF23-9E3DE318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8B49-7BB6-4FD7-855E-67A1EDD4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1452-BC25-4B7A-8044-8D1A6F41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BA45-A9C7-4FB3-9CB0-A073554E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F392-C447-44F5-B619-FA1C5BAA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26DA-5F0E-4736-B557-71525C86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E7E6-44CA-4BAB-A329-41F84C33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51CC-ABEF-4FCB-A8B5-79D6F342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CB2A-D45B-49F8-B35D-ABC8C42D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FB05-6306-482B-BDCD-C03BEC30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BCE56-AA12-4143-B162-49468B2F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9EAB0-14E9-4DC8-9341-B81C318D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F180C-ECD2-44F3-9F5E-A7423CF7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4000-6A77-4CD6-A0F3-7E661B04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DD4B6-E848-42ED-99CD-61E2420B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4848-D5ED-40A5-B0AD-FF4733C9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FE8BF-1B04-4E8D-8370-3A411B03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0A31-9166-4DCE-ACF7-D1B2B40C838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E7C5-761A-4353-B0B6-A94BD2177AA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Warm-up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29718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23520" y="2971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438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48680" y="2398680"/>
            <a:ext cx="56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 B                          C           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7280" y="3618000"/>
            <a:ext cx="454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wo line segments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wo rays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as many lines above as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94120" y="1401840"/>
            <a:ext cx="3436920" cy="1652400"/>
          </a:xfrm>
          <a:custGeom>
            <a:avLst/>
            <a:gdLst/>
            <a:ahLst/>
            <a:rect l="l" t="t" r="r" b="b"/>
            <a:pathLst>
              <a:path w="9551" h="4590">
                <a:moveTo>
                  <a:pt x="16073" y="8434"/>
                </a:moveTo>
                <a:cubicBezTo>
                  <a:pt x="16053" y="8393"/>
                  <a:pt x="16004" y="8397"/>
                  <a:pt x="15999" y="8359"/>
                </a:cubicBezTo>
                <a:cubicBezTo>
                  <a:pt x="15994" y="8316"/>
                  <a:pt x="15991" y="8296"/>
                  <a:pt x="16024" y="8285"/>
                </a:cubicBezTo>
                <a:cubicBezTo>
                  <a:pt x="15996" y="8202"/>
                  <a:pt x="15972" y="8333"/>
                  <a:pt x="15974" y="8334"/>
                </a:cubicBezTo>
                <a:cubicBezTo>
                  <a:pt x="16097" y="8377"/>
                  <a:pt x="16105" y="8259"/>
                  <a:pt x="16123" y="8186"/>
                </a:cubicBezTo>
                <a:cubicBezTo>
                  <a:pt x="16079" y="8153"/>
                  <a:pt x="15952" y="8180"/>
                  <a:pt x="16024" y="8260"/>
                </a:cubicBezTo>
                <a:cubicBezTo>
                  <a:pt x="16135" y="8383"/>
                  <a:pt x="16372" y="8229"/>
                  <a:pt x="16247" y="8111"/>
                </a:cubicBezTo>
                <a:cubicBezTo>
                  <a:pt x="16161" y="8030"/>
                  <a:pt x="16074" y="8217"/>
                  <a:pt x="16049" y="8260"/>
                </a:cubicBezTo>
                <a:cubicBezTo>
                  <a:pt x="16134" y="8303"/>
                  <a:pt x="16388" y="8240"/>
                  <a:pt x="16272" y="8086"/>
                </a:cubicBezTo>
                <a:cubicBezTo>
                  <a:pt x="16212" y="8007"/>
                  <a:pt x="16056" y="8194"/>
                  <a:pt x="16173" y="8310"/>
                </a:cubicBezTo>
                <a:cubicBezTo>
                  <a:pt x="16183" y="8290"/>
                  <a:pt x="16265" y="8042"/>
                  <a:pt x="16148" y="8161"/>
                </a:cubicBezTo>
                <a:cubicBezTo>
                  <a:pt x="16115" y="8195"/>
                  <a:pt x="16167" y="8230"/>
                  <a:pt x="16197" y="8186"/>
                </a:cubicBezTo>
              </a:path>
              <a:path w="9551" h="4590">
                <a:moveTo>
                  <a:pt x="10988" y="8111"/>
                </a:moveTo>
                <a:cubicBezTo>
                  <a:pt x="10883" y="8111"/>
                  <a:pt x="10819" y="8169"/>
                  <a:pt x="10815" y="8285"/>
                </a:cubicBezTo>
                <a:cubicBezTo>
                  <a:pt x="10809" y="8470"/>
                  <a:pt x="11055" y="8310"/>
                  <a:pt x="11063" y="8186"/>
                </a:cubicBezTo>
                <a:cubicBezTo>
                  <a:pt x="11055" y="8161"/>
                  <a:pt x="11046" y="8136"/>
                  <a:pt x="11038" y="8111"/>
                </a:cubicBezTo>
                <a:cubicBezTo>
                  <a:pt x="10860" y="8147"/>
                  <a:pt x="10868" y="8194"/>
                  <a:pt x="10889" y="8359"/>
                </a:cubicBezTo>
                <a:cubicBezTo>
                  <a:pt x="10976" y="8348"/>
                  <a:pt x="11288" y="8201"/>
                  <a:pt x="11038" y="8136"/>
                </a:cubicBezTo>
                <a:cubicBezTo>
                  <a:pt x="10908" y="8102"/>
                  <a:pt x="10930" y="8249"/>
                  <a:pt x="11038" y="8285"/>
                </a:cubicBezTo>
                <a:cubicBezTo>
                  <a:pt x="11056" y="8218"/>
                  <a:pt x="10971" y="8155"/>
                  <a:pt x="11013" y="8210"/>
                </a:cubicBezTo>
                <a:cubicBezTo>
                  <a:pt x="11021" y="8210"/>
                  <a:pt x="11030" y="8210"/>
                  <a:pt x="11038" y="8210"/>
                </a:cubicBezTo>
              </a:path>
              <a:path w="9551" h="4590">
                <a:moveTo>
                  <a:pt x="11038" y="8260"/>
                </a:moveTo>
                <a:cubicBezTo>
                  <a:pt x="11038" y="8292"/>
                  <a:pt x="11038" y="8358"/>
                  <a:pt x="11013" y="8310"/>
                </a:cubicBezTo>
              </a:path>
              <a:path w="9551" h="4590">
                <a:moveTo>
                  <a:pt x="16197" y="8111"/>
                </a:moveTo>
                <a:cubicBezTo>
                  <a:pt x="16235" y="8068"/>
                  <a:pt x="16230" y="8052"/>
                  <a:pt x="16272" y="8012"/>
                </a:cubicBezTo>
                <a:cubicBezTo>
                  <a:pt x="16394" y="7896"/>
                  <a:pt x="16509" y="7793"/>
                  <a:pt x="16619" y="7665"/>
                </a:cubicBezTo>
                <a:cubicBezTo>
                  <a:pt x="16812" y="7441"/>
                  <a:pt x="17035" y="7256"/>
                  <a:pt x="17239" y="7045"/>
                </a:cubicBezTo>
                <a:cubicBezTo>
                  <a:pt x="17589" y="6684"/>
                  <a:pt x="17927" y="6311"/>
                  <a:pt x="18281" y="5953"/>
                </a:cubicBezTo>
                <a:cubicBezTo>
                  <a:pt x="18808" y="5420"/>
                  <a:pt x="19359" y="4915"/>
                  <a:pt x="19893" y="4390"/>
                </a:cubicBezTo>
                <a:cubicBezTo>
                  <a:pt x="19989" y="4295"/>
                  <a:pt x="20127" y="4172"/>
                  <a:pt x="20216" y="4093"/>
                </a:cubicBezTo>
                <a:cubicBezTo>
                  <a:pt x="20083" y="4099"/>
                  <a:pt x="19953" y="4113"/>
                  <a:pt x="19819" y="4118"/>
                </a:cubicBezTo>
                <a:cubicBezTo>
                  <a:pt x="19811" y="4118"/>
                  <a:pt x="19802" y="4118"/>
                  <a:pt x="19794" y="4118"/>
                </a:cubicBezTo>
                <a:cubicBezTo>
                  <a:pt x="19900" y="4101"/>
                  <a:pt x="20009" y="4084"/>
                  <a:pt x="20117" y="4068"/>
                </a:cubicBezTo>
                <a:cubicBezTo>
                  <a:pt x="20192" y="4057"/>
                  <a:pt x="20266" y="4055"/>
                  <a:pt x="20340" y="4043"/>
                </a:cubicBezTo>
                <a:cubicBezTo>
                  <a:pt x="20354" y="4170"/>
                  <a:pt x="20361" y="4287"/>
                  <a:pt x="20365" y="4415"/>
                </a:cubicBezTo>
                <a:cubicBezTo>
                  <a:pt x="20365" y="4423"/>
                  <a:pt x="20365" y="4432"/>
                  <a:pt x="20365" y="4440"/>
                </a:cubicBezTo>
              </a:path>
              <a:path w="9551" h="4590">
                <a:moveTo>
                  <a:pt x="11237" y="8359"/>
                </a:moveTo>
                <a:cubicBezTo>
                  <a:pt x="11179" y="8359"/>
                  <a:pt x="11205" y="8359"/>
                  <a:pt x="11162" y="8359"/>
                </a:cubicBezTo>
                <a:cubicBezTo>
                  <a:pt x="11230" y="8316"/>
                  <a:pt x="11257" y="8304"/>
                  <a:pt x="11336" y="8285"/>
                </a:cubicBezTo>
                <a:cubicBezTo>
                  <a:pt x="11495" y="8247"/>
                  <a:pt x="11668" y="8238"/>
                  <a:pt x="11832" y="8235"/>
                </a:cubicBezTo>
                <a:cubicBezTo>
                  <a:pt x="12083" y="8230"/>
                  <a:pt x="12334" y="8273"/>
                  <a:pt x="12576" y="8334"/>
                </a:cubicBezTo>
                <a:cubicBezTo>
                  <a:pt x="12805" y="8392"/>
                  <a:pt x="13010" y="8475"/>
                  <a:pt x="13246" y="8483"/>
                </a:cubicBezTo>
                <a:cubicBezTo>
                  <a:pt x="13405" y="8489"/>
                  <a:pt x="13561" y="8478"/>
                  <a:pt x="13717" y="8458"/>
                </a:cubicBezTo>
                <a:cubicBezTo>
                  <a:pt x="13840" y="8442"/>
                  <a:pt x="13963" y="8397"/>
                  <a:pt x="14089" y="8384"/>
                </a:cubicBezTo>
                <a:cubicBezTo>
                  <a:pt x="14247" y="8368"/>
                  <a:pt x="14388" y="8320"/>
                  <a:pt x="14536" y="8260"/>
                </a:cubicBezTo>
                <a:cubicBezTo>
                  <a:pt x="14707" y="8190"/>
                  <a:pt x="14883" y="8143"/>
                  <a:pt x="15056" y="8086"/>
                </a:cubicBezTo>
                <a:cubicBezTo>
                  <a:pt x="15179" y="8045"/>
                  <a:pt x="15301" y="7999"/>
                  <a:pt x="15429" y="7987"/>
                </a:cubicBezTo>
                <a:cubicBezTo>
                  <a:pt x="15547" y="7976"/>
                  <a:pt x="15666" y="8004"/>
                  <a:pt x="15776" y="8012"/>
                </a:cubicBezTo>
                <a:cubicBezTo>
                  <a:pt x="15833" y="8016"/>
                  <a:pt x="15870" y="8023"/>
                  <a:pt x="15925" y="8037"/>
                </a:cubicBezTo>
              </a:path>
              <a:path w="9551" h="4590">
                <a:moveTo>
                  <a:pt x="15999" y="8136"/>
                </a:moveTo>
                <a:cubicBezTo>
                  <a:pt x="16035" y="8158"/>
                  <a:pt x="16060" y="8171"/>
                  <a:pt x="16098" y="8186"/>
                </a:cubicBezTo>
                <a:cubicBezTo>
                  <a:pt x="16010" y="8186"/>
                  <a:pt x="15880" y="8169"/>
                  <a:pt x="15776" y="8161"/>
                </a:cubicBezTo>
                <a:cubicBezTo>
                  <a:pt x="15604" y="8148"/>
                  <a:pt x="15426" y="8146"/>
                  <a:pt x="15255" y="8136"/>
                </a:cubicBezTo>
                <a:cubicBezTo>
                  <a:pt x="15040" y="8123"/>
                  <a:pt x="14815" y="8150"/>
                  <a:pt x="14610" y="8161"/>
                </a:cubicBezTo>
                <a:cubicBezTo>
                  <a:pt x="14106" y="8189"/>
                  <a:pt x="13599" y="8152"/>
                  <a:pt x="13097" y="8186"/>
                </a:cubicBezTo>
                <a:cubicBezTo>
                  <a:pt x="12846" y="8203"/>
                  <a:pt x="12602" y="8243"/>
                  <a:pt x="12353" y="8285"/>
                </a:cubicBezTo>
                <a:cubicBezTo>
                  <a:pt x="12121" y="8324"/>
                  <a:pt x="11888" y="8344"/>
                  <a:pt x="11658" y="8384"/>
                </a:cubicBezTo>
                <a:cubicBezTo>
                  <a:pt x="11573" y="8399"/>
                  <a:pt x="11496" y="8399"/>
                  <a:pt x="11410" y="8409"/>
                </a:cubicBezTo>
                <a:cubicBezTo>
                  <a:pt x="11302" y="8422"/>
                  <a:pt x="11201" y="8431"/>
                  <a:pt x="11088" y="8434"/>
                </a:cubicBezTo>
                <a:cubicBezTo>
                  <a:pt x="10965" y="8437"/>
                  <a:pt x="11063" y="8409"/>
                  <a:pt x="11063" y="8409"/>
                </a:cubicBezTo>
              </a:path>
              <a:path w="9551" h="4590">
                <a:moveTo>
                  <a:pt x="19149" y="5060"/>
                </a:moveTo>
                <a:cubicBezTo>
                  <a:pt x="19086" y="5044"/>
                  <a:pt x="19070" y="4992"/>
                  <a:pt x="19050" y="5110"/>
                </a:cubicBezTo>
                <a:cubicBezTo>
                  <a:pt x="19050" y="5194"/>
                  <a:pt x="19057" y="5227"/>
                  <a:pt x="19124" y="5259"/>
                </a:cubicBezTo>
                <a:cubicBezTo>
                  <a:pt x="19193" y="5202"/>
                  <a:pt x="19357" y="5028"/>
                  <a:pt x="19149" y="5011"/>
                </a:cubicBezTo>
                <a:cubicBezTo>
                  <a:pt x="19075" y="5035"/>
                  <a:pt x="19050" y="5044"/>
                  <a:pt x="19050" y="5110"/>
                </a:cubicBezTo>
                <a:cubicBezTo>
                  <a:pt x="19195" y="5173"/>
                  <a:pt x="19205" y="5117"/>
                  <a:pt x="19224" y="4986"/>
                </a:cubicBezTo>
                <a:cubicBezTo>
                  <a:pt x="19147" y="4992"/>
                  <a:pt x="18997" y="5110"/>
                  <a:pt x="19050" y="5110"/>
                </a:cubicBezTo>
              </a:path>
              <a:path w="9551" h="4590">
                <a:moveTo>
                  <a:pt x="18678" y="4142"/>
                </a:moveTo>
                <a:cubicBezTo>
                  <a:pt x="18678" y="4220"/>
                  <a:pt x="18610" y="4419"/>
                  <a:pt x="18653" y="4465"/>
                </a:cubicBezTo>
                <a:cubicBezTo>
                  <a:pt x="18727" y="4543"/>
                  <a:pt x="18873" y="4456"/>
                  <a:pt x="18951" y="4440"/>
                </a:cubicBezTo>
              </a:path>
              <a:path w="9551" h="4590">
                <a:moveTo>
                  <a:pt x="18678" y="4390"/>
                </a:moveTo>
                <a:cubicBezTo>
                  <a:pt x="18737" y="4371"/>
                  <a:pt x="18823" y="4330"/>
                  <a:pt x="18852" y="4291"/>
                </a:cubicBezTo>
              </a:path>
              <a:path w="9551" h="4590">
                <a:moveTo>
                  <a:pt x="18579" y="4118"/>
                </a:moveTo>
                <a:cubicBezTo>
                  <a:pt x="18682" y="4071"/>
                  <a:pt x="18777" y="4024"/>
                  <a:pt x="18876" y="3969"/>
                </a:cubicBezTo>
              </a:path>
              <a:path w="9551" h="4590">
                <a:moveTo>
                  <a:pt x="18703" y="3969"/>
                </a:moveTo>
                <a:cubicBezTo>
                  <a:pt x="18746" y="3944"/>
                  <a:pt x="18767" y="3929"/>
                  <a:pt x="18802" y="3894"/>
                </a:cubicBezTo>
              </a:path>
              <a:path w="9551" h="4590">
                <a:moveTo>
                  <a:pt x="15429" y="7962"/>
                </a:moveTo>
                <a:cubicBezTo>
                  <a:pt x="15510" y="7962"/>
                  <a:pt x="15557" y="7862"/>
                  <a:pt x="15627" y="7813"/>
                </a:cubicBezTo>
                <a:cubicBezTo>
                  <a:pt x="15777" y="7709"/>
                  <a:pt x="15940" y="7616"/>
                  <a:pt x="16123" y="7590"/>
                </a:cubicBezTo>
                <a:cubicBezTo>
                  <a:pt x="16226" y="7575"/>
                  <a:pt x="16304" y="7639"/>
                  <a:pt x="16396" y="7665"/>
                </a:cubicBezTo>
                <a:cubicBezTo>
                  <a:pt x="16404" y="7665"/>
                  <a:pt x="16413" y="7665"/>
                  <a:pt x="16421" y="7665"/>
                </a:cubicBezTo>
                <a:cubicBezTo>
                  <a:pt x="16319" y="7665"/>
                  <a:pt x="16226" y="7613"/>
                  <a:pt x="16123" y="7615"/>
                </a:cubicBezTo>
                <a:cubicBezTo>
                  <a:pt x="15972" y="7618"/>
                  <a:pt x="15751" y="7724"/>
                  <a:pt x="15652" y="7838"/>
                </a:cubicBezTo>
                <a:cubicBezTo>
                  <a:pt x="15603" y="7895"/>
                  <a:pt x="15528" y="8005"/>
                  <a:pt x="15528" y="8086"/>
                </a:cubicBezTo>
                <a:cubicBezTo>
                  <a:pt x="15579" y="7985"/>
                  <a:pt x="15679" y="7884"/>
                  <a:pt x="15776" y="7813"/>
                </a:cubicBezTo>
                <a:cubicBezTo>
                  <a:pt x="15946" y="7689"/>
                  <a:pt x="16089" y="7622"/>
                  <a:pt x="16297" y="7615"/>
                </a:cubicBezTo>
                <a:cubicBezTo>
                  <a:pt x="16352" y="7613"/>
                  <a:pt x="16428" y="7631"/>
                  <a:pt x="16446" y="7665"/>
                </a:cubicBezTo>
                <a:cubicBezTo>
                  <a:pt x="16446" y="7673"/>
                  <a:pt x="16446" y="7681"/>
                  <a:pt x="16446" y="76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67200" y="3598920"/>
            <a:ext cx="3054600" cy="357120"/>
          </a:xfrm>
          <a:custGeom>
            <a:avLst/>
            <a:gdLst/>
            <a:ahLst/>
            <a:rect l="l" t="t" r="r" b="b"/>
            <a:pathLst>
              <a:path w="8484" h="993">
                <a:moveTo>
                  <a:pt x="15974" y="10840"/>
                </a:moveTo>
                <a:cubicBezTo>
                  <a:pt x="15966" y="10840"/>
                  <a:pt x="15957" y="10840"/>
                  <a:pt x="15949" y="10840"/>
                </a:cubicBezTo>
              </a:path>
              <a:path w="8484" h="993">
                <a:moveTo>
                  <a:pt x="13519" y="10616"/>
                </a:moveTo>
                <a:cubicBezTo>
                  <a:pt x="13717" y="10542"/>
                  <a:pt x="13783" y="10517"/>
                  <a:pt x="13915" y="10468"/>
                </a:cubicBezTo>
              </a:path>
              <a:path w="8484" h="993">
                <a:moveTo>
                  <a:pt x="20166" y="10046"/>
                </a:moveTo>
                <a:cubicBezTo>
                  <a:pt x="20329" y="9992"/>
                  <a:pt x="20550" y="9979"/>
                  <a:pt x="20687" y="10120"/>
                </a:cubicBezTo>
                <a:cubicBezTo>
                  <a:pt x="20843" y="10280"/>
                  <a:pt x="20708" y="10465"/>
                  <a:pt x="20538" y="10492"/>
                </a:cubicBezTo>
                <a:cubicBezTo>
                  <a:pt x="20429" y="10492"/>
                  <a:pt x="20403" y="10497"/>
                  <a:pt x="20340" y="10468"/>
                </a:cubicBezTo>
              </a:path>
              <a:path w="8484" h="993">
                <a:moveTo>
                  <a:pt x="19769" y="10988"/>
                </a:moveTo>
                <a:cubicBezTo>
                  <a:pt x="19769" y="10980"/>
                  <a:pt x="19769" y="10972"/>
                  <a:pt x="19769" y="10964"/>
                </a:cubicBezTo>
              </a:path>
              <a:path w="8484" h="993">
                <a:moveTo>
                  <a:pt x="19943" y="10840"/>
                </a:moveTo>
                <a:lnTo>
                  <a:pt x="19943" y="10840"/>
                </a:lnTo>
              </a:path>
              <a:path w="8484" h="993">
                <a:moveTo>
                  <a:pt x="21506" y="10368"/>
                </a:moveTo>
                <a:cubicBezTo>
                  <a:pt x="21675" y="10307"/>
                  <a:pt x="21832" y="10281"/>
                  <a:pt x="22002" y="102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13200" y="3537000"/>
            <a:ext cx="455760" cy="436680"/>
          </a:xfrm>
          <a:custGeom>
            <a:avLst/>
            <a:gdLst/>
            <a:ahLst/>
            <a:rect l="l" t="t" r="r" b="b"/>
            <a:pathLst>
              <a:path w="1266" h="1216">
                <a:moveTo>
                  <a:pt x="13444" y="10418"/>
                </a:moveTo>
                <a:cubicBezTo>
                  <a:pt x="13444" y="10641"/>
                  <a:pt x="13433" y="10823"/>
                  <a:pt x="13370" y="11038"/>
                </a:cubicBezTo>
                <a:cubicBezTo>
                  <a:pt x="13391" y="10808"/>
                  <a:pt x="13423" y="10530"/>
                  <a:pt x="13519" y="10319"/>
                </a:cubicBezTo>
                <a:cubicBezTo>
                  <a:pt x="13621" y="10175"/>
                  <a:pt x="13627" y="10126"/>
                  <a:pt x="13742" y="10120"/>
                </a:cubicBezTo>
                <a:cubicBezTo>
                  <a:pt x="13864" y="10356"/>
                  <a:pt x="13884" y="10571"/>
                  <a:pt x="13891" y="10840"/>
                </a:cubicBezTo>
                <a:cubicBezTo>
                  <a:pt x="13891" y="10891"/>
                  <a:pt x="13892" y="10906"/>
                  <a:pt x="13915" y="10840"/>
                </a:cubicBezTo>
              </a:path>
              <a:path w="1266" h="1216">
                <a:moveTo>
                  <a:pt x="14163" y="10269"/>
                </a:moveTo>
                <a:cubicBezTo>
                  <a:pt x="14171" y="10395"/>
                  <a:pt x="14200" y="10517"/>
                  <a:pt x="14213" y="10641"/>
                </a:cubicBezTo>
              </a:path>
              <a:path w="1266" h="1216">
                <a:moveTo>
                  <a:pt x="14015" y="10220"/>
                </a:moveTo>
                <a:cubicBezTo>
                  <a:pt x="14092" y="10168"/>
                  <a:pt x="14516" y="9912"/>
                  <a:pt x="14585" y="10120"/>
                </a:cubicBezTo>
                <a:cubicBezTo>
                  <a:pt x="14637" y="10276"/>
                  <a:pt x="14484" y="10341"/>
                  <a:pt x="14387" y="10393"/>
                </a:cubicBezTo>
                <a:cubicBezTo>
                  <a:pt x="14387" y="10385"/>
                  <a:pt x="14387" y="10376"/>
                  <a:pt x="14387" y="10368"/>
                </a:cubicBezTo>
                <a:cubicBezTo>
                  <a:pt x="14543" y="10337"/>
                  <a:pt x="14799" y="10383"/>
                  <a:pt x="14560" y="10592"/>
                </a:cubicBezTo>
                <a:cubicBezTo>
                  <a:pt x="14419" y="10715"/>
                  <a:pt x="14289" y="10681"/>
                  <a:pt x="14139" y="10641"/>
                </a:cubicBezTo>
              </a:path>
              <a:path w="1266" h="1216">
                <a:moveTo>
                  <a:pt x="13419" y="9922"/>
                </a:moveTo>
                <a:cubicBezTo>
                  <a:pt x="13545" y="9890"/>
                  <a:pt x="13686" y="9881"/>
                  <a:pt x="13816" y="9872"/>
                </a:cubicBezTo>
                <a:cubicBezTo>
                  <a:pt x="13975" y="9861"/>
                  <a:pt x="14128" y="9847"/>
                  <a:pt x="14288" y="9847"/>
                </a:cubicBezTo>
                <a:cubicBezTo>
                  <a:pt x="14337" y="9847"/>
                  <a:pt x="14343" y="9832"/>
                  <a:pt x="14362" y="9823"/>
                </a:cubicBezTo>
                <a:cubicBezTo>
                  <a:pt x="14370" y="9823"/>
                  <a:pt x="14379" y="9823"/>
                  <a:pt x="14387" y="98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34000" y="3500280"/>
            <a:ext cx="447840" cy="349560"/>
          </a:xfrm>
          <a:custGeom>
            <a:avLst/>
            <a:gdLst/>
            <a:ahLst/>
            <a:rect l="l" t="t" r="r" b="b"/>
            <a:pathLst>
              <a:path w="1241" h="969">
                <a:moveTo>
                  <a:pt x="15801" y="10195"/>
                </a:moveTo>
                <a:cubicBezTo>
                  <a:pt x="15819" y="10345"/>
                  <a:pt x="15825" y="10489"/>
                  <a:pt x="15825" y="10641"/>
                </a:cubicBezTo>
                <a:cubicBezTo>
                  <a:pt x="15825" y="10773"/>
                  <a:pt x="15805" y="10583"/>
                  <a:pt x="15801" y="10567"/>
                </a:cubicBezTo>
              </a:path>
              <a:path w="1241" h="969">
                <a:moveTo>
                  <a:pt x="15652" y="10170"/>
                </a:moveTo>
                <a:cubicBezTo>
                  <a:pt x="15723" y="10142"/>
                  <a:pt x="16175" y="9939"/>
                  <a:pt x="16148" y="10195"/>
                </a:cubicBezTo>
                <a:cubicBezTo>
                  <a:pt x="16077" y="10313"/>
                  <a:pt x="16056" y="10349"/>
                  <a:pt x="15999" y="10418"/>
                </a:cubicBezTo>
                <a:cubicBezTo>
                  <a:pt x="15991" y="10426"/>
                  <a:pt x="15982" y="10435"/>
                  <a:pt x="15974" y="10443"/>
                </a:cubicBezTo>
                <a:cubicBezTo>
                  <a:pt x="16030" y="10332"/>
                  <a:pt x="16216" y="10253"/>
                  <a:pt x="16222" y="10468"/>
                </a:cubicBezTo>
                <a:cubicBezTo>
                  <a:pt x="16228" y="10689"/>
                  <a:pt x="15986" y="10678"/>
                  <a:pt x="15850" y="10666"/>
                </a:cubicBezTo>
                <a:cubicBezTo>
                  <a:pt x="15822" y="10666"/>
                  <a:pt x="15816" y="10664"/>
                  <a:pt x="15850" y="10641"/>
                </a:cubicBezTo>
              </a:path>
              <a:path w="1241" h="969">
                <a:moveTo>
                  <a:pt x="16793" y="10220"/>
                </a:moveTo>
                <a:cubicBezTo>
                  <a:pt x="16782" y="10178"/>
                  <a:pt x="16746" y="10129"/>
                  <a:pt x="16694" y="10120"/>
                </a:cubicBezTo>
                <a:cubicBezTo>
                  <a:pt x="16496" y="10084"/>
                  <a:pt x="16408" y="10458"/>
                  <a:pt x="16470" y="10592"/>
                </a:cubicBezTo>
                <a:cubicBezTo>
                  <a:pt x="16547" y="10757"/>
                  <a:pt x="16827" y="10543"/>
                  <a:pt x="16892" y="10492"/>
                </a:cubicBezTo>
              </a:path>
              <a:path w="1241" h="969">
                <a:moveTo>
                  <a:pt x="16024" y="9823"/>
                </a:moveTo>
                <a:cubicBezTo>
                  <a:pt x="16195" y="9794"/>
                  <a:pt x="16371" y="9771"/>
                  <a:pt x="16545" y="9748"/>
                </a:cubicBezTo>
                <a:cubicBezTo>
                  <a:pt x="16666" y="9732"/>
                  <a:pt x="16802" y="9661"/>
                  <a:pt x="16743" y="97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5240" y="3554280"/>
            <a:ext cx="384480" cy="303480"/>
          </a:xfrm>
          <a:custGeom>
            <a:avLst/>
            <a:gdLst/>
            <a:ahLst/>
            <a:rect l="l" t="t" r="r" b="b"/>
            <a:pathLst>
              <a:path w="1067" h="845">
                <a:moveTo>
                  <a:pt x="17959" y="10170"/>
                </a:moveTo>
                <a:cubicBezTo>
                  <a:pt x="18004" y="10193"/>
                  <a:pt x="17985" y="10218"/>
                  <a:pt x="18008" y="10195"/>
                </a:cubicBezTo>
                <a:cubicBezTo>
                  <a:pt x="17875" y="10106"/>
                  <a:pt x="17815" y="10159"/>
                  <a:pt x="17760" y="10319"/>
                </a:cubicBezTo>
                <a:cubicBezTo>
                  <a:pt x="17654" y="10629"/>
                  <a:pt x="17721" y="10742"/>
                  <a:pt x="18008" y="10641"/>
                </a:cubicBezTo>
                <a:cubicBezTo>
                  <a:pt x="18108" y="10601"/>
                  <a:pt x="18138" y="10608"/>
                  <a:pt x="18157" y="10542"/>
                </a:cubicBezTo>
              </a:path>
              <a:path w="1067" h="845">
                <a:moveTo>
                  <a:pt x="18355" y="10120"/>
                </a:moveTo>
                <a:cubicBezTo>
                  <a:pt x="18373" y="10261"/>
                  <a:pt x="18406" y="10402"/>
                  <a:pt x="18430" y="10542"/>
                </a:cubicBezTo>
                <a:cubicBezTo>
                  <a:pt x="18430" y="10550"/>
                  <a:pt x="18430" y="10559"/>
                  <a:pt x="18430" y="10567"/>
                </a:cubicBezTo>
              </a:path>
              <a:path w="1067" h="845">
                <a:moveTo>
                  <a:pt x="18207" y="10145"/>
                </a:moveTo>
                <a:cubicBezTo>
                  <a:pt x="18387" y="10118"/>
                  <a:pt x="18705" y="10071"/>
                  <a:pt x="18777" y="10319"/>
                </a:cubicBezTo>
                <a:cubicBezTo>
                  <a:pt x="18838" y="10530"/>
                  <a:pt x="18554" y="10621"/>
                  <a:pt x="18405" y="10592"/>
                </a:cubicBezTo>
                <a:cubicBezTo>
                  <a:pt x="18317" y="10548"/>
                  <a:pt x="18284" y="10543"/>
                  <a:pt x="18306" y="10468"/>
                </a:cubicBezTo>
              </a:path>
              <a:path w="1067" h="845">
                <a:moveTo>
                  <a:pt x="17711" y="9922"/>
                </a:moveTo>
                <a:cubicBezTo>
                  <a:pt x="17921" y="9922"/>
                  <a:pt x="18122" y="9886"/>
                  <a:pt x="18331" y="9872"/>
                </a:cubicBezTo>
                <a:cubicBezTo>
                  <a:pt x="18404" y="9867"/>
                  <a:pt x="18481" y="9872"/>
                  <a:pt x="18554" y="98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27920" y="3473280"/>
            <a:ext cx="339840" cy="339840"/>
          </a:xfrm>
          <a:custGeom>
            <a:avLst/>
            <a:gdLst/>
            <a:ahLst/>
            <a:rect l="l" t="t" r="r" b="b"/>
            <a:pathLst>
              <a:path w="944" h="944">
                <a:moveTo>
                  <a:pt x="19596" y="10120"/>
                </a:moveTo>
                <a:cubicBezTo>
                  <a:pt x="19596" y="10209"/>
                  <a:pt x="19639" y="10546"/>
                  <a:pt x="19521" y="10592"/>
                </a:cubicBezTo>
                <a:cubicBezTo>
                  <a:pt x="19521" y="10575"/>
                  <a:pt x="19521" y="10559"/>
                  <a:pt x="19521" y="10542"/>
                </a:cubicBezTo>
                <a:cubicBezTo>
                  <a:pt x="19542" y="10310"/>
                  <a:pt x="19615" y="10121"/>
                  <a:pt x="19745" y="9922"/>
                </a:cubicBezTo>
                <a:cubicBezTo>
                  <a:pt x="19761" y="9905"/>
                  <a:pt x="19778" y="9889"/>
                  <a:pt x="19794" y="9872"/>
                </a:cubicBezTo>
                <a:cubicBezTo>
                  <a:pt x="19974" y="10052"/>
                  <a:pt x="19963" y="10216"/>
                  <a:pt x="19968" y="10468"/>
                </a:cubicBezTo>
                <a:cubicBezTo>
                  <a:pt x="19968" y="10542"/>
                  <a:pt x="19968" y="10551"/>
                  <a:pt x="19968" y="10592"/>
                </a:cubicBezTo>
              </a:path>
              <a:path w="944" h="944">
                <a:moveTo>
                  <a:pt x="19571" y="10443"/>
                </a:moveTo>
                <a:cubicBezTo>
                  <a:pt x="19673" y="10417"/>
                  <a:pt x="19777" y="10396"/>
                  <a:pt x="19893" y="10393"/>
                </a:cubicBezTo>
                <a:cubicBezTo>
                  <a:pt x="19951" y="10393"/>
                  <a:pt x="19960" y="10393"/>
                  <a:pt x="19993" y="10393"/>
                </a:cubicBezTo>
              </a:path>
              <a:path w="944" h="944">
                <a:moveTo>
                  <a:pt x="20290" y="9996"/>
                </a:moveTo>
                <a:cubicBezTo>
                  <a:pt x="20305" y="10148"/>
                  <a:pt x="20314" y="10319"/>
                  <a:pt x="20340" y="10468"/>
                </a:cubicBezTo>
                <a:cubicBezTo>
                  <a:pt x="20360" y="10508"/>
                  <a:pt x="20369" y="10534"/>
                  <a:pt x="20365" y="10492"/>
                </a:cubicBezTo>
              </a:path>
              <a:path w="944" h="944">
                <a:moveTo>
                  <a:pt x="19670" y="9649"/>
                </a:moveTo>
                <a:cubicBezTo>
                  <a:pt x="19935" y="9649"/>
                  <a:pt x="20199" y="9649"/>
                  <a:pt x="20464" y="96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15160" y="3429000"/>
            <a:ext cx="1000080" cy="384120"/>
          </a:xfrm>
          <a:custGeom>
            <a:avLst/>
            <a:gdLst/>
            <a:ahLst/>
            <a:rect l="l" t="t" r="r" b="b"/>
            <a:pathLst>
              <a:path w="2779" h="1068">
                <a:moveTo>
                  <a:pt x="21580" y="10170"/>
                </a:moveTo>
                <a:cubicBezTo>
                  <a:pt x="21553" y="10252"/>
                  <a:pt x="21497" y="10429"/>
                  <a:pt x="21456" y="10542"/>
                </a:cubicBezTo>
                <a:cubicBezTo>
                  <a:pt x="21432" y="10590"/>
                  <a:pt x="21424" y="10609"/>
                  <a:pt x="21431" y="10542"/>
                </a:cubicBezTo>
                <a:cubicBezTo>
                  <a:pt x="21460" y="10292"/>
                  <a:pt x="21526" y="10078"/>
                  <a:pt x="21630" y="9847"/>
                </a:cubicBezTo>
                <a:cubicBezTo>
                  <a:pt x="21825" y="9891"/>
                  <a:pt x="21850" y="10082"/>
                  <a:pt x="21853" y="10269"/>
                </a:cubicBezTo>
                <a:cubicBezTo>
                  <a:pt x="21834" y="10401"/>
                  <a:pt x="21826" y="10417"/>
                  <a:pt x="21828" y="10492"/>
                </a:cubicBezTo>
              </a:path>
              <a:path w="2779" h="1068">
                <a:moveTo>
                  <a:pt x="22225" y="9996"/>
                </a:moveTo>
                <a:cubicBezTo>
                  <a:pt x="22266" y="10016"/>
                  <a:pt x="22282" y="10014"/>
                  <a:pt x="22275" y="10046"/>
                </a:cubicBezTo>
                <a:cubicBezTo>
                  <a:pt x="22275" y="9997"/>
                  <a:pt x="22212" y="9915"/>
                  <a:pt x="22151" y="9971"/>
                </a:cubicBezTo>
                <a:cubicBezTo>
                  <a:pt x="22045" y="10067"/>
                  <a:pt x="21915" y="10436"/>
                  <a:pt x="22126" y="10492"/>
                </a:cubicBezTo>
                <a:cubicBezTo>
                  <a:pt x="22195" y="10510"/>
                  <a:pt x="22467" y="10449"/>
                  <a:pt x="22498" y="10418"/>
                </a:cubicBezTo>
              </a:path>
              <a:path w="2779" h="1068">
                <a:moveTo>
                  <a:pt x="21506" y="9624"/>
                </a:moveTo>
                <a:cubicBezTo>
                  <a:pt x="21703" y="9599"/>
                  <a:pt x="21903" y="9577"/>
                  <a:pt x="22101" y="9550"/>
                </a:cubicBezTo>
                <a:cubicBezTo>
                  <a:pt x="22190" y="9538"/>
                  <a:pt x="22243" y="9525"/>
                  <a:pt x="22324" y="9525"/>
                </a:cubicBezTo>
              </a:path>
              <a:path w="2779" h="1068">
                <a:moveTo>
                  <a:pt x="23217" y="9996"/>
                </a:moveTo>
                <a:cubicBezTo>
                  <a:pt x="23217" y="9988"/>
                  <a:pt x="23217" y="9979"/>
                  <a:pt x="23217" y="9971"/>
                </a:cubicBezTo>
                <a:cubicBezTo>
                  <a:pt x="23314" y="10068"/>
                  <a:pt x="23342" y="10252"/>
                  <a:pt x="23391" y="10393"/>
                </a:cubicBezTo>
                <a:cubicBezTo>
                  <a:pt x="23411" y="10434"/>
                  <a:pt x="23430" y="10450"/>
                  <a:pt x="23391" y="10443"/>
                </a:cubicBezTo>
              </a:path>
              <a:path w="2779" h="1068">
                <a:moveTo>
                  <a:pt x="22969" y="9947"/>
                </a:moveTo>
                <a:cubicBezTo>
                  <a:pt x="23187" y="9824"/>
                  <a:pt x="23302" y="9805"/>
                  <a:pt x="23540" y="9872"/>
                </a:cubicBezTo>
                <a:cubicBezTo>
                  <a:pt x="23494" y="10015"/>
                  <a:pt x="23481" y="10049"/>
                  <a:pt x="23366" y="10145"/>
                </a:cubicBezTo>
                <a:cubicBezTo>
                  <a:pt x="23323" y="10145"/>
                  <a:pt x="23521" y="10088"/>
                  <a:pt x="23589" y="10120"/>
                </a:cubicBezTo>
                <a:cubicBezTo>
                  <a:pt x="23806" y="10222"/>
                  <a:pt x="23536" y="10450"/>
                  <a:pt x="23416" y="10468"/>
                </a:cubicBezTo>
                <a:cubicBezTo>
                  <a:pt x="23319" y="10483"/>
                  <a:pt x="23242" y="10433"/>
                  <a:pt x="23242" y="10393"/>
                </a:cubicBezTo>
              </a:path>
              <a:path w="2779" h="1068">
                <a:moveTo>
                  <a:pt x="23837" y="9823"/>
                </a:moveTo>
                <a:cubicBezTo>
                  <a:pt x="23888" y="9990"/>
                  <a:pt x="23962" y="10153"/>
                  <a:pt x="24011" y="10319"/>
                </a:cubicBezTo>
                <a:cubicBezTo>
                  <a:pt x="24011" y="10327"/>
                  <a:pt x="24011" y="10336"/>
                  <a:pt x="24011" y="10344"/>
                </a:cubicBezTo>
              </a:path>
              <a:path w="2779" h="1068">
                <a:moveTo>
                  <a:pt x="23763" y="9823"/>
                </a:moveTo>
                <a:cubicBezTo>
                  <a:pt x="23916" y="9792"/>
                  <a:pt x="24134" y="9841"/>
                  <a:pt x="24209" y="10021"/>
                </a:cubicBezTo>
                <a:cubicBezTo>
                  <a:pt x="24238" y="10091"/>
                  <a:pt x="24206" y="10340"/>
                  <a:pt x="24110" y="10368"/>
                </a:cubicBezTo>
                <a:cubicBezTo>
                  <a:pt x="24046" y="10387"/>
                  <a:pt x="23954" y="10368"/>
                  <a:pt x="23887" y="10368"/>
                </a:cubicBezTo>
              </a:path>
              <a:path w="2779" h="1068">
                <a:moveTo>
                  <a:pt x="23292" y="9575"/>
                </a:moveTo>
                <a:cubicBezTo>
                  <a:pt x="23430" y="9575"/>
                  <a:pt x="23544" y="9571"/>
                  <a:pt x="23688" y="9575"/>
                </a:cubicBezTo>
                <a:cubicBezTo>
                  <a:pt x="23847" y="9579"/>
                  <a:pt x="24002" y="9599"/>
                  <a:pt x="24160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43240" y="4143240"/>
            <a:ext cx="3581640" cy="295560"/>
          </a:xfrm>
          <a:custGeom>
            <a:avLst/>
            <a:gdLst/>
            <a:ahLst/>
            <a:rect l="l" t="t" r="r" b="b"/>
            <a:pathLst>
              <a:path w="9948" h="820">
                <a:moveTo>
                  <a:pt x="11509" y="11658"/>
                </a:moveTo>
                <a:cubicBezTo>
                  <a:pt x="11530" y="11827"/>
                  <a:pt x="11541" y="12006"/>
                  <a:pt x="11559" y="12179"/>
                </a:cubicBezTo>
                <a:cubicBezTo>
                  <a:pt x="11577" y="12270"/>
                  <a:pt x="11586" y="12277"/>
                  <a:pt x="11584" y="12328"/>
                </a:cubicBezTo>
              </a:path>
              <a:path w="9948" h="820">
                <a:moveTo>
                  <a:pt x="16470" y="12154"/>
                </a:moveTo>
                <a:cubicBezTo>
                  <a:pt x="16519" y="12142"/>
                  <a:pt x="16572" y="12117"/>
                  <a:pt x="16619" y="12105"/>
                </a:cubicBezTo>
                <a:cubicBezTo>
                  <a:pt x="16627" y="12105"/>
                  <a:pt x="16636" y="12105"/>
                  <a:pt x="16644" y="12105"/>
                </a:cubicBezTo>
              </a:path>
              <a:path w="9948" h="820">
                <a:moveTo>
                  <a:pt x="19174" y="11733"/>
                </a:moveTo>
                <a:cubicBezTo>
                  <a:pt x="19373" y="11715"/>
                  <a:pt x="19634" y="11694"/>
                  <a:pt x="19621" y="11981"/>
                </a:cubicBezTo>
                <a:cubicBezTo>
                  <a:pt x="19611" y="12215"/>
                  <a:pt x="19394" y="12249"/>
                  <a:pt x="19224" y="12229"/>
                </a:cubicBezTo>
              </a:path>
              <a:path w="9948" h="820">
                <a:moveTo>
                  <a:pt x="20985" y="11509"/>
                </a:moveTo>
                <a:cubicBezTo>
                  <a:pt x="21141" y="11539"/>
                  <a:pt x="21639" y="11603"/>
                  <a:pt x="21431" y="11906"/>
                </a:cubicBezTo>
                <a:cubicBezTo>
                  <a:pt x="21339" y="12041"/>
                  <a:pt x="21187" y="12038"/>
                  <a:pt x="21059" y="120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44960" y="3929040"/>
            <a:ext cx="536400" cy="544680"/>
          </a:xfrm>
          <a:custGeom>
            <a:avLst/>
            <a:gdLst/>
            <a:ahLst/>
            <a:rect l="l" t="t" r="r" b="b"/>
            <a:pathLst>
              <a:path w="1489" h="1514">
                <a:moveTo>
                  <a:pt x="11336" y="11733"/>
                </a:moveTo>
                <a:cubicBezTo>
                  <a:pt x="11426" y="11642"/>
                  <a:pt x="11610" y="11555"/>
                  <a:pt x="11733" y="11683"/>
                </a:cubicBezTo>
                <a:cubicBezTo>
                  <a:pt x="11823" y="11777"/>
                  <a:pt x="11525" y="11906"/>
                  <a:pt x="11609" y="12005"/>
                </a:cubicBezTo>
                <a:cubicBezTo>
                  <a:pt x="11662" y="12067"/>
                  <a:pt x="11755" y="11976"/>
                  <a:pt x="11832" y="12005"/>
                </a:cubicBezTo>
                <a:cubicBezTo>
                  <a:pt x="11804" y="12194"/>
                  <a:pt x="11764" y="12361"/>
                  <a:pt x="11534" y="12353"/>
                </a:cubicBezTo>
                <a:cubicBezTo>
                  <a:pt x="11491" y="12331"/>
                  <a:pt x="11470" y="12328"/>
                  <a:pt x="11509" y="12303"/>
                </a:cubicBezTo>
              </a:path>
              <a:path w="1489" h="1514">
                <a:moveTo>
                  <a:pt x="12254" y="11881"/>
                </a:moveTo>
                <a:cubicBezTo>
                  <a:pt x="12230" y="11740"/>
                  <a:pt x="12231" y="11929"/>
                  <a:pt x="12229" y="11956"/>
                </a:cubicBezTo>
                <a:cubicBezTo>
                  <a:pt x="12216" y="12110"/>
                  <a:pt x="12178" y="12233"/>
                  <a:pt x="12154" y="12378"/>
                </a:cubicBezTo>
                <a:cubicBezTo>
                  <a:pt x="12154" y="12203"/>
                  <a:pt x="12184" y="12052"/>
                  <a:pt x="12229" y="11881"/>
                </a:cubicBezTo>
                <a:cubicBezTo>
                  <a:pt x="12260" y="11764"/>
                  <a:pt x="12306" y="11492"/>
                  <a:pt x="12477" y="11534"/>
                </a:cubicBezTo>
                <a:cubicBezTo>
                  <a:pt x="12733" y="11597"/>
                  <a:pt x="12672" y="11989"/>
                  <a:pt x="12675" y="12179"/>
                </a:cubicBezTo>
                <a:cubicBezTo>
                  <a:pt x="12675" y="12270"/>
                  <a:pt x="12675" y="12278"/>
                  <a:pt x="12675" y="12328"/>
                </a:cubicBezTo>
              </a:path>
              <a:path w="1489" h="1514">
                <a:moveTo>
                  <a:pt x="12254" y="12105"/>
                </a:moveTo>
                <a:cubicBezTo>
                  <a:pt x="12364" y="12060"/>
                  <a:pt x="12504" y="12007"/>
                  <a:pt x="12626" y="12030"/>
                </a:cubicBezTo>
                <a:cubicBezTo>
                  <a:pt x="12648" y="12053"/>
                  <a:pt x="12656" y="12064"/>
                  <a:pt x="12650" y="12030"/>
                </a:cubicBezTo>
              </a:path>
              <a:path w="1489" h="1514">
                <a:moveTo>
                  <a:pt x="11410" y="11162"/>
                </a:moveTo>
                <a:cubicBezTo>
                  <a:pt x="11543" y="11152"/>
                  <a:pt x="11674" y="11147"/>
                  <a:pt x="11807" y="11137"/>
                </a:cubicBezTo>
                <a:cubicBezTo>
                  <a:pt x="12097" y="11115"/>
                  <a:pt x="12385" y="11071"/>
                  <a:pt x="12675" y="11063"/>
                </a:cubicBezTo>
                <a:cubicBezTo>
                  <a:pt x="12700" y="11063"/>
                  <a:pt x="12708" y="11063"/>
                  <a:pt x="12725" y="11063"/>
                </a:cubicBezTo>
                <a:cubicBezTo>
                  <a:pt x="12641" y="11033"/>
                  <a:pt x="12566" y="10978"/>
                  <a:pt x="12502" y="10939"/>
                </a:cubicBezTo>
                <a:cubicBezTo>
                  <a:pt x="12494" y="10939"/>
                  <a:pt x="12485" y="10939"/>
                  <a:pt x="12477" y="10939"/>
                </a:cubicBezTo>
                <a:cubicBezTo>
                  <a:pt x="12498" y="10939"/>
                  <a:pt x="12356" y="10844"/>
                  <a:pt x="12576" y="10988"/>
                </a:cubicBezTo>
                <a:cubicBezTo>
                  <a:pt x="12752" y="11103"/>
                  <a:pt x="12656" y="11033"/>
                  <a:pt x="12725" y="11137"/>
                </a:cubicBezTo>
                <a:cubicBezTo>
                  <a:pt x="12628" y="11176"/>
                  <a:pt x="12499" y="11201"/>
                  <a:pt x="12427" y="11286"/>
                </a:cubicBezTo>
                <a:cubicBezTo>
                  <a:pt x="12427" y="11294"/>
                  <a:pt x="12427" y="11303"/>
                  <a:pt x="12427" y="11311"/>
                </a:cubicBezTo>
              </a:path>
              <a:path w="1489" h="1514">
                <a:moveTo>
                  <a:pt x="11237" y="12378"/>
                </a:moveTo>
                <a:cubicBezTo>
                  <a:pt x="11237" y="12402"/>
                  <a:pt x="11237" y="12411"/>
                  <a:pt x="11237" y="124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6120" y="4054320"/>
            <a:ext cx="446040" cy="419400"/>
          </a:xfrm>
          <a:custGeom>
            <a:avLst/>
            <a:gdLst/>
            <a:ahLst/>
            <a:rect l="l" t="t" r="r" b="b"/>
            <a:pathLst>
              <a:path w="1241" h="1167">
                <a:moveTo>
                  <a:pt x="14089" y="11708"/>
                </a:moveTo>
                <a:cubicBezTo>
                  <a:pt x="14137" y="11747"/>
                  <a:pt x="14223" y="11862"/>
                  <a:pt x="14238" y="11832"/>
                </a:cubicBezTo>
                <a:cubicBezTo>
                  <a:pt x="14125" y="11732"/>
                  <a:pt x="13999" y="11682"/>
                  <a:pt x="13891" y="11857"/>
                </a:cubicBezTo>
                <a:cubicBezTo>
                  <a:pt x="13734" y="12109"/>
                  <a:pt x="13670" y="12498"/>
                  <a:pt x="14089" y="12427"/>
                </a:cubicBezTo>
                <a:cubicBezTo>
                  <a:pt x="14207" y="12407"/>
                  <a:pt x="14290" y="12343"/>
                  <a:pt x="14412" y="12328"/>
                </a:cubicBezTo>
              </a:path>
              <a:path w="1241" h="1167">
                <a:moveTo>
                  <a:pt x="14585" y="11881"/>
                </a:moveTo>
                <a:cubicBezTo>
                  <a:pt x="14606" y="12013"/>
                  <a:pt x="14695" y="12266"/>
                  <a:pt x="14610" y="12378"/>
                </a:cubicBezTo>
                <a:cubicBezTo>
                  <a:pt x="14610" y="12370"/>
                  <a:pt x="14610" y="12361"/>
                  <a:pt x="14610" y="12353"/>
                </a:cubicBezTo>
              </a:path>
              <a:path w="1241" h="1167">
                <a:moveTo>
                  <a:pt x="14461" y="11832"/>
                </a:moveTo>
                <a:cubicBezTo>
                  <a:pt x="14683" y="11801"/>
                  <a:pt x="15042" y="11774"/>
                  <a:pt x="15007" y="12129"/>
                </a:cubicBezTo>
                <a:cubicBezTo>
                  <a:pt x="14980" y="12404"/>
                  <a:pt x="14752" y="12379"/>
                  <a:pt x="14560" y="12353"/>
                </a:cubicBezTo>
                <a:cubicBezTo>
                  <a:pt x="14552" y="12353"/>
                  <a:pt x="14544" y="12353"/>
                  <a:pt x="14536" y="12353"/>
                </a:cubicBezTo>
              </a:path>
              <a:path w="1241" h="1167">
                <a:moveTo>
                  <a:pt x="13791" y="11435"/>
                </a:moveTo>
                <a:cubicBezTo>
                  <a:pt x="14076" y="11474"/>
                  <a:pt x="14349" y="11415"/>
                  <a:pt x="14635" y="11435"/>
                </a:cubicBezTo>
                <a:cubicBezTo>
                  <a:pt x="14677" y="11438"/>
                  <a:pt x="14817" y="11460"/>
                  <a:pt x="14709" y="11460"/>
                </a:cubicBezTo>
              </a:path>
              <a:path w="1241" h="1167">
                <a:moveTo>
                  <a:pt x="14461" y="11261"/>
                </a:moveTo>
                <a:cubicBezTo>
                  <a:pt x="14625" y="11261"/>
                  <a:pt x="14667" y="11322"/>
                  <a:pt x="14784" y="11435"/>
                </a:cubicBezTo>
                <a:cubicBezTo>
                  <a:pt x="14825" y="11475"/>
                  <a:pt x="14847" y="11501"/>
                  <a:pt x="14858" y="11534"/>
                </a:cubicBezTo>
                <a:cubicBezTo>
                  <a:pt x="14772" y="11591"/>
                  <a:pt x="14710" y="11651"/>
                  <a:pt x="14635" y="117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089240"/>
            <a:ext cx="419400" cy="366840"/>
          </a:xfrm>
          <a:custGeom>
            <a:avLst/>
            <a:gdLst/>
            <a:ahLst/>
            <a:rect l="l" t="t" r="r" b="b"/>
            <a:pathLst>
              <a:path w="1166" h="1018">
                <a:moveTo>
                  <a:pt x="16396" y="11832"/>
                </a:moveTo>
                <a:cubicBezTo>
                  <a:pt x="16396" y="11731"/>
                  <a:pt x="16369" y="11981"/>
                  <a:pt x="16346" y="12080"/>
                </a:cubicBezTo>
                <a:cubicBezTo>
                  <a:pt x="16313" y="12219"/>
                  <a:pt x="16297" y="12250"/>
                  <a:pt x="16297" y="12378"/>
                </a:cubicBezTo>
                <a:cubicBezTo>
                  <a:pt x="16317" y="12329"/>
                  <a:pt x="16333" y="12273"/>
                  <a:pt x="16346" y="12229"/>
                </a:cubicBezTo>
                <a:cubicBezTo>
                  <a:pt x="16359" y="12186"/>
                  <a:pt x="16358" y="12143"/>
                  <a:pt x="16371" y="12105"/>
                </a:cubicBezTo>
                <a:cubicBezTo>
                  <a:pt x="16400" y="12020"/>
                  <a:pt x="16431" y="11914"/>
                  <a:pt x="16470" y="11832"/>
                </a:cubicBezTo>
                <a:cubicBezTo>
                  <a:pt x="16498" y="11772"/>
                  <a:pt x="16520" y="11779"/>
                  <a:pt x="16594" y="11757"/>
                </a:cubicBezTo>
                <a:cubicBezTo>
                  <a:pt x="16660" y="11871"/>
                  <a:pt x="16666" y="11996"/>
                  <a:pt x="16669" y="12129"/>
                </a:cubicBezTo>
                <a:cubicBezTo>
                  <a:pt x="16671" y="12230"/>
                  <a:pt x="16664" y="12288"/>
                  <a:pt x="16694" y="12378"/>
                </a:cubicBezTo>
              </a:path>
              <a:path w="1166" h="1018">
                <a:moveTo>
                  <a:pt x="17314" y="11733"/>
                </a:moveTo>
                <a:cubicBezTo>
                  <a:pt x="17314" y="11761"/>
                  <a:pt x="17316" y="11771"/>
                  <a:pt x="17338" y="11782"/>
                </a:cubicBezTo>
                <a:cubicBezTo>
                  <a:pt x="17240" y="11703"/>
                  <a:pt x="17148" y="11705"/>
                  <a:pt x="17090" y="11857"/>
                </a:cubicBezTo>
                <a:cubicBezTo>
                  <a:pt x="16982" y="12137"/>
                  <a:pt x="17034" y="12374"/>
                  <a:pt x="17363" y="12303"/>
                </a:cubicBezTo>
                <a:cubicBezTo>
                  <a:pt x="17436" y="12267"/>
                  <a:pt x="17498" y="12250"/>
                  <a:pt x="17438" y="12254"/>
                </a:cubicBezTo>
              </a:path>
              <a:path w="1166" h="1018">
                <a:moveTo>
                  <a:pt x="16570" y="11435"/>
                </a:moveTo>
                <a:cubicBezTo>
                  <a:pt x="16742" y="11460"/>
                  <a:pt x="16915" y="11463"/>
                  <a:pt x="17090" y="11485"/>
                </a:cubicBezTo>
                <a:cubicBezTo>
                  <a:pt x="17175" y="11496"/>
                  <a:pt x="17286" y="11467"/>
                  <a:pt x="17338" y="11534"/>
                </a:cubicBezTo>
                <a:cubicBezTo>
                  <a:pt x="17366" y="11570"/>
                  <a:pt x="17140" y="11404"/>
                  <a:pt x="17115" y="11385"/>
                </a:cubicBezTo>
                <a:cubicBezTo>
                  <a:pt x="17092" y="11363"/>
                  <a:pt x="17081" y="11355"/>
                  <a:pt x="17115" y="11361"/>
                </a:cubicBezTo>
                <a:cubicBezTo>
                  <a:pt x="17214" y="11467"/>
                  <a:pt x="17297" y="11552"/>
                  <a:pt x="17413" y="11633"/>
                </a:cubicBezTo>
                <a:cubicBezTo>
                  <a:pt x="17338" y="11680"/>
                  <a:pt x="17230" y="11742"/>
                  <a:pt x="17140" y="11757"/>
                </a:cubicBezTo>
                <a:cubicBezTo>
                  <a:pt x="17132" y="11757"/>
                  <a:pt x="17123" y="11757"/>
                  <a:pt x="17115" y="117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97800" y="4027320"/>
            <a:ext cx="330120" cy="393840"/>
          </a:xfrm>
          <a:custGeom>
            <a:avLst/>
            <a:gdLst/>
            <a:ahLst/>
            <a:rect l="l" t="t" r="r" b="b"/>
            <a:pathLst>
              <a:path w="918" h="1092">
                <a:moveTo>
                  <a:pt x="18653" y="11733"/>
                </a:moveTo>
                <a:cubicBezTo>
                  <a:pt x="18685" y="11857"/>
                  <a:pt x="18629" y="12038"/>
                  <a:pt x="18604" y="12179"/>
                </a:cubicBezTo>
                <a:cubicBezTo>
                  <a:pt x="18604" y="12271"/>
                  <a:pt x="18596" y="12091"/>
                  <a:pt x="18628" y="12005"/>
                </a:cubicBezTo>
                <a:cubicBezTo>
                  <a:pt x="18680" y="11864"/>
                  <a:pt x="18761" y="11747"/>
                  <a:pt x="18852" y="11633"/>
                </a:cubicBezTo>
                <a:cubicBezTo>
                  <a:pt x="18995" y="11611"/>
                  <a:pt x="19035" y="11880"/>
                  <a:pt x="19050" y="12005"/>
                </a:cubicBezTo>
                <a:cubicBezTo>
                  <a:pt x="19066" y="12137"/>
                  <a:pt x="19043" y="12170"/>
                  <a:pt x="19025" y="12278"/>
                </a:cubicBezTo>
              </a:path>
              <a:path w="918" h="1092">
                <a:moveTo>
                  <a:pt x="18678" y="12005"/>
                </a:moveTo>
                <a:cubicBezTo>
                  <a:pt x="18786" y="11997"/>
                  <a:pt x="18891" y="11981"/>
                  <a:pt x="19000" y="11981"/>
                </a:cubicBezTo>
              </a:path>
              <a:path w="918" h="1092">
                <a:moveTo>
                  <a:pt x="19372" y="11733"/>
                </a:moveTo>
                <a:cubicBezTo>
                  <a:pt x="19372" y="11807"/>
                  <a:pt x="19372" y="12381"/>
                  <a:pt x="19372" y="12204"/>
                </a:cubicBezTo>
              </a:path>
              <a:path w="918" h="1092">
                <a:moveTo>
                  <a:pt x="18777" y="11361"/>
                </a:moveTo>
                <a:cubicBezTo>
                  <a:pt x="18961" y="11381"/>
                  <a:pt x="19138" y="11385"/>
                  <a:pt x="19323" y="11385"/>
                </a:cubicBezTo>
                <a:cubicBezTo>
                  <a:pt x="19381" y="11385"/>
                  <a:pt x="19405" y="11369"/>
                  <a:pt x="19397" y="11410"/>
                </a:cubicBezTo>
              </a:path>
              <a:path w="918" h="1092">
                <a:moveTo>
                  <a:pt x="19149" y="11187"/>
                </a:moveTo>
                <a:cubicBezTo>
                  <a:pt x="19299" y="11230"/>
                  <a:pt x="19369" y="11284"/>
                  <a:pt x="19496" y="11361"/>
                </a:cubicBezTo>
                <a:cubicBezTo>
                  <a:pt x="19504" y="11361"/>
                  <a:pt x="19513" y="11361"/>
                  <a:pt x="19521" y="11361"/>
                </a:cubicBezTo>
                <a:cubicBezTo>
                  <a:pt x="19427" y="11469"/>
                  <a:pt x="19313" y="11545"/>
                  <a:pt x="19273" y="116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13760" y="3990960"/>
            <a:ext cx="347400" cy="376200"/>
          </a:xfrm>
          <a:custGeom>
            <a:avLst/>
            <a:gdLst/>
            <a:ahLst/>
            <a:rect l="l" t="t" r="r" b="b"/>
            <a:pathLst>
              <a:path w="968" h="1042">
                <a:moveTo>
                  <a:pt x="20513" y="11534"/>
                </a:moveTo>
                <a:cubicBezTo>
                  <a:pt x="20530" y="11716"/>
                  <a:pt x="20558" y="11895"/>
                  <a:pt x="20563" y="12080"/>
                </a:cubicBezTo>
                <a:cubicBezTo>
                  <a:pt x="20563" y="12096"/>
                  <a:pt x="20563" y="12113"/>
                  <a:pt x="20563" y="12129"/>
                </a:cubicBezTo>
              </a:path>
              <a:path w="968" h="1042">
                <a:moveTo>
                  <a:pt x="20315" y="11435"/>
                </a:moveTo>
                <a:cubicBezTo>
                  <a:pt x="20427" y="11435"/>
                  <a:pt x="20974" y="11401"/>
                  <a:pt x="20811" y="11683"/>
                </a:cubicBezTo>
                <a:cubicBezTo>
                  <a:pt x="20724" y="11748"/>
                  <a:pt x="20706" y="11768"/>
                  <a:pt x="20638" y="11782"/>
                </a:cubicBezTo>
                <a:cubicBezTo>
                  <a:pt x="20741" y="11677"/>
                  <a:pt x="20816" y="11769"/>
                  <a:pt x="20910" y="11832"/>
                </a:cubicBezTo>
                <a:cubicBezTo>
                  <a:pt x="20824" y="12017"/>
                  <a:pt x="20743" y="12041"/>
                  <a:pt x="20538" y="12030"/>
                </a:cubicBezTo>
              </a:path>
              <a:path w="968" h="1042">
                <a:moveTo>
                  <a:pt x="21084" y="11584"/>
                </a:moveTo>
                <a:cubicBezTo>
                  <a:pt x="21115" y="11760"/>
                  <a:pt x="21134" y="11926"/>
                  <a:pt x="21134" y="12105"/>
                </a:cubicBezTo>
              </a:path>
              <a:path w="968" h="1042">
                <a:moveTo>
                  <a:pt x="20588" y="11261"/>
                </a:moveTo>
                <a:cubicBezTo>
                  <a:pt x="20788" y="11247"/>
                  <a:pt x="20984" y="11209"/>
                  <a:pt x="21183" y="11187"/>
                </a:cubicBezTo>
                <a:cubicBezTo>
                  <a:pt x="21271" y="11177"/>
                  <a:pt x="21143" y="11170"/>
                  <a:pt x="21059" y="11137"/>
                </a:cubicBezTo>
                <a:cubicBezTo>
                  <a:pt x="21018" y="11121"/>
                  <a:pt x="20976" y="11104"/>
                  <a:pt x="20935" y="11088"/>
                </a:cubicBezTo>
                <a:cubicBezTo>
                  <a:pt x="20927" y="11088"/>
                  <a:pt x="20918" y="11088"/>
                  <a:pt x="20910" y="11088"/>
                </a:cubicBezTo>
                <a:cubicBezTo>
                  <a:pt x="21026" y="11104"/>
                  <a:pt x="21133" y="11149"/>
                  <a:pt x="21233" y="11212"/>
                </a:cubicBezTo>
                <a:cubicBezTo>
                  <a:pt x="21255" y="11234"/>
                  <a:pt x="21260" y="11243"/>
                  <a:pt x="21282" y="11237"/>
                </a:cubicBezTo>
                <a:cubicBezTo>
                  <a:pt x="21257" y="11263"/>
                  <a:pt x="21075" y="11410"/>
                  <a:pt x="21059" y="11410"/>
                </a:cubicBezTo>
                <a:cubicBezTo>
                  <a:pt x="21059" y="11402"/>
                  <a:pt x="21059" y="11393"/>
                  <a:pt x="21059" y="113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18640" y="3956040"/>
            <a:ext cx="411120" cy="374760"/>
          </a:xfrm>
          <a:custGeom>
            <a:avLst/>
            <a:gdLst/>
            <a:ahLst/>
            <a:rect l="l" t="t" r="r" b="b"/>
            <a:pathLst>
              <a:path w="1142" h="1043">
                <a:moveTo>
                  <a:pt x="22448" y="11410"/>
                </a:moveTo>
                <a:cubicBezTo>
                  <a:pt x="22469" y="11578"/>
                  <a:pt x="22524" y="11738"/>
                  <a:pt x="22547" y="11906"/>
                </a:cubicBezTo>
                <a:cubicBezTo>
                  <a:pt x="22547" y="11923"/>
                  <a:pt x="22547" y="11939"/>
                  <a:pt x="22547" y="11956"/>
                </a:cubicBezTo>
              </a:path>
              <a:path w="1142" h="1043">
                <a:moveTo>
                  <a:pt x="22275" y="11410"/>
                </a:moveTo>
                <a:cubicBezTo>
                  <a:pt x="22389" y="11385"/>
                  <a:pt x="22868" y="11257"/>
                  <a:pt x="22820" y="11534"/>
                </a:cubicBezTo>
                <a:cubicBezTo>
                  <a:pt x="22803" y="11630"/>
                  <a:pt x="22694" y="11662"/>
                  <a:pt x="22622" y="11683"/>
                </a:cubicBezTo>
                <a:cubicBezTo>
                  <a:pt x="22754" y="11683"/>
                  <a:pt x="22715" y="11685"/>
                  <a:pt x="22820" y="11757"/>
                </a:cubicBezTo>
                <a:cubicBezTo>
                  <a:pt x="22810" y="11925"/>
                  <a:pt x="22695" y="12093"/>
                  <a:pt x="22473" y="12005"/>
                </a:cubicBezTo>
                <a:cubicBezTo>
                  <a:pt x="22448" y="11980"/>
                  <a:pt x="22424" y="11956"/>
                  <a:pt x="22399" y="11931"/>
                </a:cubicBezTo>
              </a:path>
              <a:path w="1142" h="1043">
                <a:moveTo>
                  <a:pt x="23118" y="11559"/>
                </a:moveTo>
                <a:cubicBezTo>
                  <a:pt x="23140" y="11603"/>
                  <a:pt x="23143" y="11624"/>
                  <a:pt x="23168" y="11584"/>
                </a:cubicBezTo>
                <a:cubicBezTo>
                  <a:pt x="23091" y="11553"/>
                  <a:pt x="23035" y="11470"/>
                  <a:pt x="22969" y="11609"/>
                </a:cubicBezTo>
                <a:cubicBezTo>
                  <a:pt x="22850" y="11859"/>
                  <a:pt x="22957" y="12057"/>
                  <a:pt x="23242" y="11981"/>
                </a:cubicBezTo>
                <a:cubicBezTo>
                  <a:pt x="23336" y="11956"/>
                  <a:pt x="23397" y="11932"/>
                  <a:pt x="23416" y="11857"/>
                </a:cubicBezTo>
              </a:path>
              <a:path w="1142" h="1043">
                <a:moveTo>
                  <a:pt x="22473" y="11187"/>
                </a:moveTo>
                <a:cubicBezTo>
                  <a:pt x="22652" y="11145"/>
                  <a:pt x="22855" y="11142"/>
                  <a:pt x="23044" y="11137"/>
                </a:cubicBezTo>
                <a:cubicBezTo>
                  <a:pt x="23091" y="11136"/>
                  <a:pt x="23146" y="11157"/>
                  <a:pt x="23118" y="11137"/>
                </a:cubicBezTo>
                <a:cubicBezTo>
                  <a:pt x="23049" y="11088"/>
                  <a:pt x="22972" y="11052"/>
                  <a:pt x="22895" y="11013"/>
                </a:cubicBezTo>
                <a:cubicBezTo>
                  <a:pt x="22872" y="10990"/>
                  <a:pt x="22861" y="10982"/>
                  <a:pt x="22895" y="10988"/>
                </a:cubicBezTo>
                <a:cubicBezTo>
                  <a:pt x="22990" y="11047"/>
                  <a:pt x="23085" y="11107"/>
                  <a:pt x="23192" y="11137"/>
                </a:cubicBezTo>
                <a:cubicBezTo>
                  <a:pt x="23192" y="11219"/>
                  <a:pt x="23126" y="11306"/>
                  <a:pt x="23068" y="11361"/>
                </a:cubicBezTo>
                <a:cubicBezTo>
                  <a:pt x="23060" y="11361"/>
                  <a:pt x="23052" y="11361"/>
                  <a:pt x="23044" y="113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91160" y="4633920"/>
            <a:ext cx="2421000" cy="304920"/>
          </a:xfrm>
          <a:custGeom>
            <a:avLst/>
            <a:gdLst/>
            <a:ahLst/>
            <a:rect l="l" t="t" r="r" b="b"/>
            <a:pathLst>
              <a:path w="6723" h="844">
                <a:moveTo>
                  <a:pt x="18033" y="13717"/>
                </a:moveTo>
                <a:cubicBezTo>
                  <a:pt x="18157" y="13695"/>
                  <a:pt x="18278" y="13684"/>
                  <a:pt x="18405" y="13667"/>
                </a:cubicBezTo>
              </a:path>
              <a:path w="6723" h="844">
                <a:moveTo>
                  <a:pt x="22299" y="13395"/>
                </a:moveTo>
                <a:cubicBezTo>
                  <a:pt x="22459" y="13369"/>
                  <a:pt x="22613" y="13337"/>
                  <a:pt x="22771" y="13320"/>
                </a:cubicBezTo>
              </a:path>
              <a:path w="6723" h="844">
                <a:moveTo>
                  <a:pt x="22920" y="13022"/>
                </a:moveTo>
                <a:cubicBezTo>
                  <a:pt x="22954" y="13194"/>
                  <a:pt x="22980" y="13368"/>
                  <a:pt x="22994" y="13543"/>
                </a:cubicBezTo>
              </a:path>
              <a:path w="6723" h="844">
                <a:moveTo>
                  <a:pt x="22845" y="12948"/>
                </a:moveTo>
                <a:cubicBezTo>
                  <a:pt x="23113" y="13056"/>
                  <a:pt x="23564" y="13178"/>
                  <a:pt x="23267" y="13543"/>
                </a:cubicBezTo>
                <a:cubicBezTo>
                  <a:pt x="23124" y="13639"/>
                  <a:pt x="23082" y="13675"/>
                  <a:pt x="22969" y="13593"/>
                </a:cubicBezTo>
              </a:path>
              <a:path w="6723" h="844">
                <a:moveTo>
                  <a:pt x="24234" y="12874"/>
                </a:moveTo>
                <a:cubicBezTo>
                  <a:pt x="24437" y="12886"/>
                  <a:pt x="24660" y="12901"/>
                  <a:pt x="24755" y="13122"/>
                </a:cubicBezTo>
                <a:cubicBezTo>
                  <a:pt x="24820" y="13273"/>
                  <a:pt x="24551" y="13412"/>
                  <a:pt x="24433" y="13395"/>
                </a:cubicBezTo>
                <a:cubicBezTo>
                  <a:pt x="24408" y="13378"/>
                  <a:pt x="24383" y="13362"/>
                  <a:pt x="24358" y="133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37160" y="4606920"/>
            <a:ext cx="446040" cy="457200"/>
          </a:xfrm>
          <a:custGeom>
            <a:avLst/>
            <a:gdLst/>
            <a:ahLst/>
            <a:rect l="l" t="t" r="r" b="b"/>
            <a:pathLst>
              <a:path w="1241" h="1266">
                <a:moveTo>
                  <a:pt x="15503" y="13419"/>
                </a:moveTo>
                <a:cubicBezTo>
                  <a:pt x="15455" y="13404"/>
                  <a:pt x="15492" y="13405"/>
                  <a:pt x="15478" y="13469"/>
                </a:cubicBezTo>
                <a:cubicBezTo>
                  <a:pt x="15439" y="13651"/>
                  <a:pt x="15415" y="13833"/>
                  <a:pt x="15379" y="14015"/>
                </a:cubicBezTo>
                <a:cubicBezTo>
                  <a:pt x="15379" y="13864"/>
                  <a:pt x="15393" y="13734"/>
                  <a:pt x="15453" y="13593"/>
                </a:cubicBezTo>
                <a:cubicBezTo>
                  <a:pt x="15508" y="13463"/>
                  <a:pt x="15569" y="13365"/>
                  <a:pt x="15701" y="13320"/>
                </a:cubicBezTo>
                <a:cubicBezTo>
                  <a:pt x="15783" y="13536"/>
                  <a:pt x="15794" y="13750"/>
                  <a:pt x="15801" y="13990"/>
                </a:cubicBezTo>
                <a:cubicBezTo>
                  <a:pt x="15803" y="14045"/>
                  <a:pt x="15815" y="14051"/>
                  <a:pt x="15776" y="14064"/>
                </a:cubicBezTo>
              </a:path>
              <a:path w="1241" h="1266">
                <a:moveTo>
                  <a:pt x="15404" y="13791"/>
                </a:moveTo>
                <a:cubicBezTo>
                  <a:pt x="15521" y="13783"/>
                  <a:pt x="15632" y="13767"/>
                  <a:pt x="15751" y="13767"/>
                </a:cubicBezTo>
                <a:cubicBezTo>
                  <a:pt x="15759" y="13767"/>
                  <a:pt x="15768" y="13767"/>
                  <a:pt x="15776" y="13767"/>
                </a:cubicBezTo>
              </a:path>
              <a:path w="1241" h="1266">
                <a:moveTo>
                  <a:pt x="16197" y="13444"/>
                </a:moveTo>
                <a:cubicBezTo>
                  <a:pt x="16197" y="13336"/>
                  <a:pt x="16217" y="13609"/>
                  <a:pt x="16222" y="13717"/>
                </a:cubicBezTo>
                <a:cubicBezTo>
                  <a:pt x="16222" y="13849"/>
                  <a:pt x="16222" y="13866"/>
                  <a:pt x="16222" y="13940"/>
                </a:cubicBezTo>
              </a:path>
              <a:path w="1241" h="1266">
                <a:moveTo>
                  <a:pt x="16049" y="13395"/>
                </a:moveTo>
                <a:cubicBezTo>
                  <a:pt x="16230" y="13354"/>
                  <a:pt x="16365" y="13308"/>
                  <a:pt x="16545" y="13395"/>
                </a:cubicBezTo>
                <a:cubicBezTo>
                  <a:pt x="16733" y="13486"/>
                  <a:pt x="16352" y="13605"/>
                  <a:pt x="16297" y="13618"/>
                </a:cubicBezTo>
                <a:cubicBezTo>
                  <a:pt x="16289" y="13618"/>
                  <a:pt x="16280" y="13618"/>
                  <a:pt x="16272" y="13618"/>
                </a:cubicBezTo>
                <a:cubicBezTo>
                  <a:pt x="16391" y="13618"/>
                  <a:pt x="16610" y="13617"/>
                  <a:pt x="16619" y="13791"/>
                </a:cubicBezTo>
                <a:cubicBezTo>
                  <a:pt x="16630" y="14008"/>
                  <a:pt x="16327" y="14064"/>
                  <a:pt x="16173" y="14039"/>
                </a:cubicBezTo>
                <a:cubicBezTo>
                  <a:pt x="16165" y="14031"/>
                  <a:pt x="16156" y="14023"/>
                  <a:pt x="16148" y="14015"/>
                </a:cubicBezTo>
              </a:path>
              <a:path w="1241" h="1266">
                <a:moveTo>
                  <a:pt x="15404" y="12948"/>
                </a:moveTo>
                <a:cubicBezTo>
                  <a:pt x="15578" y="12983"/>
                  <a:pt x="15766" y="12973"/>
                  <a:pt x="15949" y="12973"/>
                </a:cubicBezTo>
                <a:cubicBezTo>
                  <a:pt x="16102" y="12973"/>
                  <a:pt x="16245" y="12998"/>
                  <a:pt x="16396" y="12998"/>
                </a:cubicBezTo>
                <a:cubicBezTo>
                  <a:pt x="16404" y="12998"/>
                  <a:pt x="16413" y="12998"/>
                  <a:pt x="16421" y="12998"/>
                </a:cubicBezTo>
                <a:cubicBezTo>
                  <a:pt x="16365" y="12979"/>
                  <a:pt x="16280" y="12914"/>
                  <a:pt x="16247" y="12898"/>
                </a:cubicBezTo>
                <a:cubicBezTo>
                  <a:pt x="16239" y="12898"/>
                  <a:pt x="16230" y="12898"/>
                  <a:pt x="16222" y="12898"/>
                </a:cubicBezTo>
                <a:cubicBezTo>
                  <a:pt x="16338" y="12898"/>
                  <a:pt x="16415" y="12959"/>
                  <a:pt x="16520" y="12998"/>
                </a:cubicBezTo>
                <a:cubicBezTo>
                  <a:pt x="16528" y="12998"/>
                  <a:pt x="16537" y="12998"/>
                  <a:pt x="16545" y="12998"/>
                </a:cubicBezTo>
                <a:cubicBezTo>
                  <a:pt x="16486" y="13044"/>
                  <a:pt x="16337" y="13175"/>
                  <a:pt x="16272" y="13171"/>
                </a:cubicBezTo>
                <a:cubicBezTo>
                  <a:pt x="16272" y="13155"/>
                  <a:pt x="16272" y="13138"/>
                  <a:pt x="16272" y="13122"/>
                </a:cubicBezTo>
              </a:path>
              <a:path w="1241" h="1266">
                <a:moveTo>
                  <a:pt x="15528" y="12824"/>
                </a:moveTo>
                <a:cubicBezTo>
                  <a:pt x="15528" y="12799"/>
                  <a:pt x="15528" y="12791"/>
                  <a:pt x="15553" y="12799"/>
                </a:cubicBezTo>
                <a:cubicBezTo>
                  <a:pt x="15472" y="12845"/>
                  <a:pt x="15410" y="12906"/>
                  <a:pt x="15379" y="12998"/>
                </a:cubicBezTo>
                <a:cubicBezTo>
                  <a:pt x="15479" y="13058"/>
                  <a:pt x="15587" y="13148"/>
                  <a:pt x="15701" y="131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11960" y="4633920"/>
            <a:ext cx="428400" cy="430200"/>
          </a:xfrm>
          <a:custGeom>
            <a:avLst/>
            <a:gdLst/>
            <a:ahLst/>
            <a:rect l="l" t="t" r="r" b="b"/>
            <a:pathLst>
              <a:path w="1191" h="1191">
                <a:moveTo>
                  <a:pt x="18033" y="13444"/>
                </a:moveTo>
                <a:cubicBezTo>
                  <a:pt x="18008" y="13645"/>
                  <a:pt x="17958" y="13827"/>
                  <a:pt x="17884" y="14015"/>
                </a:cubicBezTo>
                <a:cubicBezTo>
                  <a:pt x="17876" y="14031"/>
                  <a:pt x="17867" y="14048"/>
                  <a:pt x="17859" y="14064"/>
                </a:cubicBezTo>
                <a:cubicBezTo>
                  <a:pt x="17859" y="13889"/>
                  <a:pt x="17947" y="13682"/>
                  <a:pt x="18008" y="13519"/>
                </a:cubicBezTo>
                <a:cubicBezTo>
                  <a:pt x="18074" y="13365"/>
                  <a:pt x="18082" y="13320"/>
                  <a:pt x="18182" y="13271"/>
                </a:cubicBezTo>
                <a:cubicBezTo>
                  <a:pt x="18367" y="13471"/>
                  <a:pt x="18341" y="13626"/>
                  <a:pt x="18331" y="13891"/>
                </a:cubicBezTo>
                <a:cubicBezTo>
                  <a:pt x="18331" y="13965"/>
                  <a:pt x="18356" y="13998"/>
                  <a:pt x="18306" y="13990"/>
                </a:cubicBezTo>
              </a:path>
              <a:path w="1191" h="1191">
                <a:moveTo>
                  <a:pt x="18777" y="13543"/>
                </a:moveTo>
                <a:cubicBezTo>
                  <a:pt x="18751" y="13479"/>
                  <a:pt x="18710" y="13435"/>
                  <a:pt x="18653" y="13395"/>
                </a:cubicBezTo>
                <a:cubicBezTo>
                  <a:pt x="18522" y="13493"/>
                  <a:pt x="18370" y="13732"/>
                  <a:pt x="18554" y="13891"/>
                </a:cubicBezTo>
                <a:cubicBezTo>
                  <a:pt x="18660" y="13982"/>
                  <a:pt x="18811" y="13934"/>
                  <a:pt x="18926" y="13915"/>
                </a:cubicBezTo>
              </a:path>
              <a:path w="1191" h="1191">
                <a:moveTo>
                  <a:pt x="17959" y="13097"/>
                </a:moveTo>
                <a:cubicBezTo>
                  <a:pt x="18166" y="13021"/>
                  <a:pt x="18384" y="13047"/>
                  <a:pt x="18604" y="13047"/>
                </a:cubicBezTo>
                <a:cubicBezTo>
                  <a:pt x="18713" y="13047"/>
                  <a:pt x="18950" y="13144"/>
                  <a:pt x="18901" y="13047"/>
                </a:cubicBezTo>
                <a:cubicBezTo>
                  <a:pt x="18869" y="12983"/>
                  <a:pt x="18758" y="12928"/>
                  <a:pt x="18703" y="12874"/>
                </a:cubicBezTo>
                <a:cubicBezTo>
                  <a:pt x="18804" y="12914"/>
                  <a:pt x="18902" y="12948"/>
                  <a:pt x="19000" y="12998"/>
                </a:cubicBezTo>
                <a:cubicBezTo>
                  <a:pt x="18941" y="13074"/>
                  <a:pt x="18860" y="13155"/>
                  <a:pt x="18777" y="13196"/>
                </a:cubicBezTo>
              </a:path>
              <a:path w="1191" h="1191">
                <a:moveTo>
                  <a:pt x="18008" y="12898"/>
                </a:moveTo>
                <a:cubicBezTo>
                  <a:pt x="17940" y="12962"/>
                  <a:pt x="17880" y="13014"/>
                  <a:pt x="17810" y="13072"/>
                </a:cubicBezTo>
                <a:cubicBezTo>
                  <a:pt x="17893" y="13093"/>
                  <a:pt x="17992" y="13144"/>
                  <a:pt x="18083" y="13171"/>
                </a:cubicBezTo>
                <a:cubicBezTo>
                  <a:pt x="18143" y="13191"/>
                  <a:pt x="18158" y="13190"/>
                  <a:pt x="18182" y="132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08920" y="4581360"/>
            <a:ext cx="534960" cy="411480"/>
          </a:xfrm>
          <a:custGeom>
            <a:avLst/>
            <a:gdLst/>
            <a:ahLst/>
            <a:rect l="l" t="t" r="r" b="b"/>
            <a:pathLst>
              <a:path w="1489" h="1142">
                <a:moveTo>
                  <a:pt x="20117" y="13246"/>
                </a:moveTo>
                <a:cubicBezTo>
                  <a:pt x="20117" y="13453"/>
                  <a:pt x="20117" y="13659"/>
                  <a:pt x="20117" y="13866"/>
                </a:cubicBezTo>
              </a:path>
              <a:path w="1489" h="1142">
                <a:moveTo>
                  <a:pt x="19844" y="13246"/>
                </a:moveTo>
                <a:cubicBezTo>
                  <a:pt x="19965" y="13180"/>
                  <a:pt x="20322" y="13068"/>
                  <a:pt x="20439" y="13221"/>
                </a:cubicBezTo>
                <a:cubicBezTo>
                  <a:pt x="20525" y="13332"/>
                  <a:pt x="20189" y="13464"/>
                  <a:pt x="20141" y="13494"/>
                </a:cubicBezTo>
                <a:cubicBezTo>
                  <a:pt x="20338" y="13450"/>
                  <a:pt x="20270" y="13462"/>
                  <a:pt x="20464" y="13494"/>
                </a:cubicBezTo>
                <a:cubicBezTo>
                  <a:pt x="20450" y="13728"/>
                  <a:pt x="20325" y="13785"/>
                  <a:pt x="20092" y="13841"/>
                </a:cubicBezTo>
                <a:cubicBezTo>
                  <a:pt x="20027" y="13841"/>
                  <a:pt x="20039" y="13807"/>
                  <a:pt x="20141" y="13717"/>
                </a:cubicBezTo>
              </a:path>
              <a:path w="1489" h="1142">
                <a:moveTo>
                  <a:pt x="20935" y="13171"/>
                </a:moveTo>
                <a:cubicBezTo>
                  <a:pt x="20943" y="13188"/>
                  <a:pt x="20952" y="13204"/>
                  <a:pt x="20960" y="13221"/>
                </a:cubicBezTo>
                <a:cubicBezTo>
                  <a:pt x="20960" y="13317"/>
                  <a:pt x="20961" y="13194"/>
                  <a:pt x="20910" y="13146"/>
                </a:cubicBezTo>
                <a:cubicBezTo>
                  <a:pt x="20777" y="13021"/>
                  <a:pt x="20667" y="13502"/>
                  <a:pt x="20712" y="13593"/>
                </a:cubicBezTo>
                <a:cubicBezTo>
                  <a:pt x="20822" y="13819"/>
                  <a:pt x="21155" y="13597"/>
                  <a:pt x="21233" y="13494"/>
                </a:cubicBezTo>
              </a:path>
              <a:path w="1489" h="1142">
                <a:moveTo>
                  <a:pt x="19968" y="12973"/>
                </a:moveTo>
                <a:cubicBezTo>
                  <a:pt x="19835" y="12973"/>
                  <a:pt x="20133" y="12959"/>
                  <a:pt x="20265" y="12948"/>
                </a:cubicBezTo>
                <a:cubicBezTo>
                  <a:pt x="20465" y="12931"/>
                  <a:pt x="20840" y="13147"/>
                  <a:pt x="20861" y="12948"/>
                </a:cubicBezTo>
                <a:cubicBezTo>
                  <a:pt x="20868" y="12884"/>
                  <a:pt x="20728" y="12778"/>
                  <a:pt x="20687" y="12725"/>
                </a:cubicBezTo>
                <a:cubicBezTo>
                  <a:pt x="20770" y="12766"/>
                  <a:pt x="20878" y="12853"/>
                  <a:pt x="20985" y="12898"/>
                </a:cubicBezTo>
                <a:cubicBezTo>
                  <a:pt x="21010" y="12906"/>
                  <a:pt x="21034" y="12915"/>
                  <a:pt x="21059" y="12923"/>
                </a:cubicBezTo>
                <a:cubicBezTo>
                  <a:pt x="20957" y="12961"/>
                  <a:pt x="20756" y="13131"/>
                  <a:pt x="20638" y="13097"/>
                </a:cubicBezTo>
                <a:cubicBezTo>
                  <a:pt x="20646" y="13080"/>
                  <a:pt x="20654" y="13064"/>
                  <a:pt x="20662" y="13047"/>
                </a:cubicBezTo>
              </a:path>
              <a:path w="1489" h="1142">
                <a:moveTo>
                  <a:pt x="20042" y="12774"/>
                </a:moveTo>
                <a:cubicBezTo>
                  <a:pt x="19928" y="12831"/>
                  <a:pt x="19838" y="12929"/>
                  <a:pt x="19745" y="13022"/>
                </a:cubicBezTo>
                <a:cubicBezTo>
                  <a:pt x="19880" y="13077"/>
                  <a:pt x="20071" y="13099"/>
                  <a:pt x="20191" y="13171"/>
                </a:cubicBezTo>
                <a:cubicBezTo>
                  <a:pt x="20191" y="13179"/>
                  <a:pt x="20191" y="13188"/>
                  <a:pt x="20191" y="131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47000" y="4483080"/>
            <a:ext cx="974880" cy="446040"/>
          </a:xfrm>
          <a:custGeom>
            <a:avLst/>
            <a:gdLst/>
            <a:ahLst/>
            <a:rect l="l" t="t" r="r" b="b"/>
            <a:pathLst>
              <a:path w="2705" h="1241">
                <a:moveTo>
                  <a:pt x="22175" y="13146"/>
                </a:moveTo>
                <a:cubicBezTo>
                  <a:pt x="22206" y="12996"/>
                  <a:pt x="22177" y="13341"/>
                  <a:pt x="22175" y="13494"/>
                </a:cubicBezTo>
                <a:cubicBezTo>
                  <a:pt x="22175" y="13601"/>
                  <a:pt x="22217" y="13651"/>
                  <a:pt x="22151" y="13643"/>
                </a:cubicBezTo>
                <a:cubicBezTo>
                  <a:pt x="22151" y="13422"/>
                  <a:pt x="22166" y="13235"/>
                  <a:pt x="22299" y="13047"/>
                </a:cubicBezTo>
                <a:cubicBezTo>
                  <a:pt x="22340" y="13006"/>
                  <a:pt x="22382" y="12964"/>
                  <a:pt x="22423" y="12923"/>
                </a:cubicBezTo>
                <a:cubicBezTo>
                  <a:pt x="22609" y="13056"/>
                  <a:pt x="22625" y="13314"/>
                  <a:pt x="22647" y="13568"/>
                </a:cubicBezTo>
                <a:cubicBezTo>
                  <a:pt x="22647" y="13677"/>
                  <a:pt x="22652" y="13733"/>
                  <a:pt x="22622" y="13618"/>
                </a:cubicBezTo>
              </a:path>
              <a:path w="2705" h="1241">
                <a:moveTo>
                  <a:pt x="22200" y="12849"/>
                </a:moveTo>
                <a:cubicBezTo>
                  <a:pt x="22430" y="12820"/>
                  <a:pt x="22661" y="12785"/>
                  <a:pt x="22895" y="12774"/>
                </a:cubicBezTo>
                <a:cubicBezTo>
                  <a:pt x="23052" y="12774"/>
                  <a:pt x="23077" y="12774"/>
                  <a:pt x="23168" y="12774"/>
                </a:cubicBezTo>
                <a:cubicBezTo>
                  <a:pt x="23054" y="12718"/>
                  <a:pt x="22964" y="12661"/>
                  <a:pt x="22870" y="12576"/>
                </a:cubicBezTo>
                <a:cubicBezTo>
                  <a:pt x="22990" y="12616"/>
                  <a:pt x="23118" y="12681"/>
                  <a:pt x="23242" y="12725"/>
                </a:cubicBezTo>
                <a:cubicBezTo>
                  <a:pt x="23360" y="12767"/>
                  <a:pt x="23109" y="12874"/>
                  <a:pt x="23044" y="12923"/>
                </a:cubicBezTo>
              </a:path>
              <a:path w="2705" h="1241">
                <a:moveTo>
                  <a:pt x="22324" y="12650"/>
                </a:moveTo>
                <a:cubicBezTo>
                  <a:pt x="22305" y="12724"/>
                  <a:pt x="22164" y="12845"/>
                  <a:pt x="22101" y="12898"/>
                </a:cubicBezTo>
                <a:cubicBezTo>
                  <a:pt x="22093" y="12898"/>
                  <a:pt x="22084" y="12898"/>
                  <a:pt x="22076" y="12898"/>
                </a:cubicBezTo>
                <a:cubicBezTo>
                  <a:pt x="22211" y="12995"/>
                  <a:pt x="22333" y="13003"/>
                  <a:pt x="22498" y="13047"/>
                </a:cubicBezTo>
              </a:path>
              <a:path w="2705" h="1241">
                <a:moveTo>
                  <a:pt x="24061" y="12998"/>
                </a:moveTo>
                <a:cubicBezTo>
                  <a:pt x="24036" y="13169"/>
                  <a:pt x="24058" y="13322"/>
                  <a:pt x="24085" y="13494"/>
                </a:cubicBezTo>
              </a:path>
              <a:path w="2705" h="1241">
                <a:moveTo>
                  <a:pt x="23812" y="12923"/>
                </a:moveTo>
                <a:cubicBezTo>
                  <a:pt x="23863" y="12913"/>
                  <a:pt x="24347" y="12831"/>
                  <a:pt x="24160" y="12998"/>
                </a:cubicBezTo>
                <a:cubicBezTo>
                  <a:pt x="24052" y="13063"/>
                  <a:pt x="24025" y="13077"/>
                  <a:pt x="23961" y="13122"/>
                </a:cubicBezTo>
                <a:cubicBezTo>
                  <a:pt x="24098" y="13122"/>
                  <a:pt x="24148" y="13129"/>
                  <a:pt x="24259" y="13196"/>
                </a:cubicBezTo>
                <a:cubicBezTo>
                  <a:pt x="24247" y="13225"/>
                  <a:pt x="23988" y="13638"/>
                  <a:pt x="23912" y="13494"/>
                </a:cubicBezTo>
                <a:cubicBezTo>
                  <a:pt x="23920" y="13461"/>
                  <a:pt x="23929" y="13428"/>
                  <a:pt x="23937" y="13395"/>
                </a:cubicBezTo>
              </a:path>
              <a:path w="2705" h="1241">
                <a:moveTo>
                  <a:pt x="24383" y="12973"/>
                </a:moveTo>
                <a:cubicBezTo>
                  <a:pt x="24462" y="13116"/>
                  <a:pt x="24483" y="13280"/>
                  <a:pt x="24507" y="13444"/>
                </a:cubicBezTo>
                <a:cubicBezTo>
                  <a:pt x="24507" y="13477"/>
                  <a:pt x="24507" y="13477"/>
                  <a:pt x="24507" y="13419"/>
                </a:cubicBezTo>
              </a:path>
              <a:path w="2705" h="1241">
                <a:moveTo>
                  <a:pt x="23986" y="12700"/>
                </a:moveTo>
                <a:cubicBezTo>
                  <a:pt x="24034" y="12604"/>
                  <a:pt x="24296" y="12606"/>
                  <a:pt x="24383" y="12601"/>
                </a:cubicBezTo>
                <a:cubicBezTo>
                  <a:pt x="24496" y="12595"/>
                  <a:pt x="24616" y="12601"/>
                  <a:pt x="24730" y="12601"/>
                </a:cubicBezTo>
                <a:cubicBezTo>
                  <a:pt x="24624" y="12571"/>
                  <a:pt x="24528" y="12511"/>
                  <a:pt x="24433" y="12452"/>
                </a:cubicBezTo>
                <a:cubicBezTo>
                  <a:pt x="24520" y="12463"/>
                  <a:pt x="24678" y="12473"/>
                  <a:pt x="24755" y="12526"/>
                </a:cubicBezTo>
                <a:cubicBezTo>
                  <a:pt x="24755" y="12551"/>
                  <a:pt x="24755" y="12559"/>
                  <a:pt x="24780" y="12551"/>
                </a:cubicBezTo>
                <a:cubicBezTo>
                  <a:pt x="24780" y="12648"/>
                  <a:pt x="24788" y="12617"/>
                  <a:pt x="24681" y="12700"/>
                </a:cubicBezTo>
                <a:cubicBezTo>
                  <a:pt x="24587" y="12773"/>
                  <a:pt x="24572" y="12827"/>
                  <a:pt x="24557" y="12750"/>
                </a:cubicBezTo>
              </a:path>
              <a:path w="2705" h="1241">
                <a:moveTo>
                  <a:pt x="23961" y="12576"/>
                </a:moveTo>
                <a:cubicBezTo>
                  <a:pt x="23993" y="12565"/>
                  <a:pt x="24000" y="12558"/>
                  <a:pt x="24011" y="12526"/>
                </a:cubicBezTo>
                <a:cubicBezTo>
                  <a:pt x="24011" y="12597"/>
                  <a:pt x="23971" y="12659"/>
                  <a:pt x="23912" y="12700"/>
                </a:cubicBezTo>
                <a:cubicBezTo>
                  <a:pt x="23886" y="12718"/>
                  <a:pt x="24047" y="12701"/>
                  <a:pt x="24110" y="12725"/>
                </a:cubicBezTo>
                <a:cubicBezTo>
                  <a:pt x="24161" y="12745"/>
                  <a:pt x="24114" y="12759"/>
                  <a:pt x="24160" y="127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62080" y="2911320"/>
            <a:ext cx="46080" cy="81000"/>
          </a:xfrm>
          <a:custGeom>
            <a:avLst/>
            <a:gdLst/>
            <a:ahLst/>
            <a:rect l="l" t="t" r="r" b="b"/>
            <a:pathLst>
              <a:path w="125" h="225">
                <a:moveTo>
                  <a:pt x="5730" y="8111"/>
                </a:moveTo>
                <a:cubicBezTo>
                  <a:pt x="5730" y="8156"/>
                  <a:pt x="5705" y="8235"/>
                  <a:pt x="5779" y="8235"/>
                </a:cubicBezTo>
                <a:cubicBezTo>
                  <a:pt x="5858" y="8235"/>
                  <a:pt x="5846" y="8138"/>
                  <a:pt x="5854" y="8086"/>
                </a:cubicBezTo>
                <a:cubicBezTo>
                  <a:pt x="5836" y="8102"/>
                  <a:pt x="5627" y="8332"/>
                  <a:pt x="5779" y="8310"/>
                </a:cubicBezTo>
                <a:cubicBezTo>
                  <a:pt x="5858" y="8299"/>
                  <a:pt x="5845" y="8222"/>
                  <a:pt x="5854" y="8161"/>
                </a:cubicBezTo>
                <a:cubicBezTo>
                  <a:pt x="5798" y="8203"/>
                  <a:pt x="5696" y="8325"/>
                  <a:pt x="5829" y="82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41280" y="68403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448" y="19000"/>
                </a:moveTo>
                <a:lnTo>
                  <a:pt x="3448" y="19000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Missing Angle Measure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the missing ang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14400" y="2666880"/>
            <a:ext cx="3011400" cy="3019320"/>
            <a:chOff x="914400" y="2666880"/>
            <a:chExt cx="3011400" cy="301932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914400" y="2666880"/>
              <a:ext cx="3011400" cy="30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flipV="1">
              <a:off x="990360" y="4495320"/>
              <a:ext cx="2895840" cy="1066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8960" y="46479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981080" y="5181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82920" y="4983120"/>
            <a:ext cx="419040" cy="428760"/>
          </a:xfrm>
          <a:custGeom>
            <a:avLst/>
            <a:gdLst/>
            <a:ahLst/>
            <a:rect l="l" t="t" r="r" b="b"/>
            <a:pathLst>
              <a:path w="1167" h="1192">
                <a:moveTo>
                  <a:pt x="6896" y="14610"/>
                </a:moveTo>
                <a:cubicBezTo>
                  <a:pt x="6913" y="14507"/>
                  <a:pt x="6944" y="14414"/>
                  <a:pt x="7020" y="14337"/>
                </a:cubicBezTo>
                <a:cubicBezTo>
                  <a:pt x="7036" y="14329"/>
                  <a:pt x="7053" y="14320"/>
                  <a:pt x="7069" y="14312"/>
                </a:cubicBezTo>
                <a:cubicBezTo>
                  <a:pt x="7150" y="14450"/>
                  <a:pt x="7151" y="14530"/>
                  <a:pt x="7094" y="14684"/>
                </a:cubicBezTo>
                <a:cubicBezTo>
                  <a:pt x="7118" y="14588"/>
                  <a:pt x="7239" y="14504"/>
                  <a:pt x="7243" y="14684"/>
                </a:cubicBezTo>
                <a:cubicBezTo>
                  <a:pt x="7246" y="14808"/>
                  <a:pt x="7186" y="15049"/>
                  <a:pt x="7020" y="15032"/>
                </a:cubicBezTo>
                <a:cubicBezTo>
                  <a:pt x="6963" y="15004"/>
                  <a:pt x="6949" y="14988"/>
                  <a:pt x="6995" y="14932"/>
                </a:cubicBezTo>
              </a:path>
              <a:path w="1167" h="1192">
                <a:moveTo>
                  <a:pt x="7441" y="14263"/>
                </a:moveTo>
                <a:cubicBezTo>
                  <a:pt x="7404" y="14339"/>
                  <a:pt x="7399" y="14470"/>
                  <a:pt x="7417" y="14560"/>
                </a:cubicBezTo>
                <a:cubicBezTo>
                  <a:pt x="7425" y="14577"/>
                  <a:pt x="7433" y="14593"/>
                  <a:pt x="7441" y="14610"/>
                </a:cubicBezTo>
                <a:cubicBezTo>
                  <a:pt x="7511" y="14571"/>
                  <a:pt x="7635" y="14516"/>
                  <a:pt x="7665" y="14436"/>
                </a:cubicBezTo>
                <a:cubicBezTo>
                  <a:pt x="7665" y="14420"/>
                  <a:pt x="7665" y="14403"/>
                  <a:pt x="7665" y="14387"/>
                </a:cubicBezTo>
              </a:path>
              <a:path w="1167" h="1192">
                <a:moveTo>
                  <a:pt x="7565" y="14114"/>
                </a:moveTo>
                <a:cubicBezTo>
                  <a:pt x="7649" y="14346"/>
                  <a:pt x="7688" y="14587"/>
                  <a:pt x="7714" y="14833"/>
                </a:cubicBezTo>
                <a:cubicBezTo>
                  <a:pt x="7714" y="14875"/>
                  <a:pt x="7706" y="14891"/>
                  <a:pt x="7739" y="14883"/>
                </a:cubicBezTo>
              </a:path>
              <a:path w="1167" h="1192">
                <a:moveTo>
                  <a:pt x="7938" y="13866"/>
                </a:moveTo>
                <a:cubicBezTo>
                  <a:pt x="7938" y="13803"/>
                  <a:pt x="7882" y="14021"/>
                  <a:pt x="7888" y="14064"/>
                </a:cubicBezTo>
                <a:cubicBezTo>
                  <a:pt x="7896" y="14072"/>
                  <a:pt x="7905" y="14081"/>
                  <a:pt x="7913" y="14089"/>
                </a:cubicBezTo>
                <a:cubicBezTo>
                  <a:pt x="7947" y="14069"/>
                  <a:pt x="8177" y="13912"/>
                  <a:pt x="8037" y="13866"/>
                </a:cubicBezTo>
                <a:cubicBezTo>
                  <a:pt x="8012" y="13866"/>
                  <a:pt x="7987" y="13866"/>
                  <a:pt x="7962" y="138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Find the missing angle: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788560" y="2332800"/>
            <a:ext cx="3610440" cy="3518280"/>
            <a:chOff x="2788560" y="2332800"/>
            <a:chExt cx="3610440" cy="351828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 rot="19688400">
              <a:off x="2559960" y="4504320"/>
              <a:ext cx="4067280" cy="2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 flipH="1" flipV="1">
              <a:off x="4436640" y="2332800"/>
              <a:ext cx="115200" cy="235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9688400">
              <a:off x="4679640" y="3885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9688400">
              <a:off x="3762000" y="44085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268800" y="4044960"/>
            <a:ext cx="509400" cy="608040"/>
          </a:xfrm>
          <a:custGeom>
            <a:avLst/>
            <a:gdLst/>
            <a:ahLst/>
            <a:rect l="l" t="t" r="r" b="b"/>
            <a:pathLst>
              <a:path w="1414" h="1687">
                <a:moveTo>
                  <a:pt x="9079" y="12229"/>
                </a:moveTo>
                <a:cubicBezTo>
                  <a:pt x="9231" y="12457"/>
                  <a:pt x="9273" y="12681"/>
                  <a:pt x="9376" y="12923"/>
                </a:cubicBezTo>
                <a:cubicBezTo>
                  <a:pt x="9409" y="12923"/>
                  <a:pt x="9417" y="12915"/>
                  <a:pt x="9401" y="12874"/>
                </a:cubicBezTo>
              </a:path>
              <a:path w="1414" h="1687">
                <a:moveTo>
                  <a:pt x="9525" y="11931"/>
                </a:moveTo>
                <a:cubicBezTo>
                  <a:pt x="9607" y="12177"/>
                  <a:pt x="9752" y="12400"/>
                  <a:pt x="9823" y="12650"/>
                </a:cubicBezTo>
                <a:cubicBezTo>
                  <a:pt x="9823" y="12702"/>
                  <a:pt x="9822" y="12717"/>
                  <a:pt x="9798" y="12650"/>
                </a:cubicBezTo>
              </a:path>
              <a:path w="1414" h="1687">
                <a:moveTo>
                  <a:pt x="9823" y="11857"/>
                </a:moveTo>
                <a:cubicBezTo>
                  <a:pt x="9952" y="11710"/>
                  <a:pt x="10112" y="11656"/>
                  <a:pt x="10244" y="11857"/>
                </a:cubicBezTo>
                <a:cubicBezTo>
                  <a:pt x="10349" y="12016"/>
                  <a:pt x="10300" y="12514"/>
                  <a:pt x="9996" y="12402"/>
                </a:cubicBezTo>
                <a:cubicBezTo>
                  <a:pt x="9980" y="12369"/>
                  <a:pt x="9963" y="12336"/>
                  <a:pt x="9947" y="12303"/>
                </a:cubicBezTo>
                <a:cubicBezTo>
                  <a:pt x="10035" y="12125"/>
                  <a:pt x="10115" y="12096"/>
                  <a:pt x="10294" y="12204"/>
                </a:cubicBezTo>
                <a:cubicBezTo>
                  <a:pt x="10381" y="12257"/>
                  <a:pt x="10342" y="12295"/>
                  <a:pt x="10393" y="12179"/>
                </a:cubicBezTo>
              </a:path>
              <a:path w="1414" h="1687">
                <a:moveTo>
                  <a:pt x="10393" y="11237"/>
                </a:moveTo>
                <a:cubicBezTo>
                  <a:pt x="10374" y="11344"/>
                  <a:pt x="10364" y="11405"/>
                  <a:pt x="10393" y="11509"/>
                </a:cubicBezTo>
                <a:cubicBezTo>
                  <a:pt x="10478" y="11391"/>
                  <a:pt x="10577" y="11302"/>
                  <a:pt x="10393" y="112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howcard Gothic"/>
              </a:rPr>
              <a:t>Using angles to find missing measure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4267080"/>
            <a:ext cx="411480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191120" y="2514600"/>
            <a:ext cx="0" cy="17524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91120" y="4038480"/>
            <a:ext cx="228600" cy="228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191120" y="2971800"/>
            <a:ext cx="2133360" cy="1295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3048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879360" y="2967480"/>
            <a:ext cx="2362680" cy="1736280"/>
            <a:chOff x="3879360" y="2967480"/>
            <a:chExt cx="2362680" cy="1736280"/>
          </a:xfrm>
        </p:grpSpPr>
        <p:sp>
          <p:nvSpPr>
            <p:cNvPr id="273" name=""/>
            <p:cNvSpPr/>
            <p:nvPr/>
          </p:nvSpPr>
          <p:spPr>
            <a:xfrm>
              <a:off x="5264280" y="2967480"/>
              <a:ext cx="40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71800" y="3736800"/>
              <a:ext cx="57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79360" y="4335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04800" y="3395160"/>
              <a:ext cx="73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428920" y="3714840"/>
            <a:ext cx="1758960" cy="1492200"/>
          </a:xfrm>
          <a:custGeom>
            <a:avLst/>
            <a:gdLst/>
            <a:ahLst/>
            <a:rect l="l" t="t" r="r" b="b"/>
            <a:pathLst>
              <a:path w="4887" h="4143">
                <a:moveTo>
                  <a:pt x="6747" y="14461"/>
                </a:moveTo>
                <a:lnTo>
                  <a:pt x="6747" y="14461"/>
                </a:lnTo>
              </a:path>
              <a:path w="4887" h="4143">
                <a:moveTo>
                  <a:pt x="11633" y="10319"/>
                </a:moveTo>
                <a:cubicBezTo>
                  <a:pt x="11618" y="10440"/>
                  <a:pt x="11588" y="10546"/>
                  <a:pt x="11559" y="10666"/>
                </a:cubicBezTo>
              </a:path>
              <a:path w="4887" h="4143">
                <a:moveTo>
                  <a:pt x="10914" y="10641"/>
                </a:moveTo>
                <a:cubicBezTo>
                  <a:pt x="10869" y="10725"/>
                  <a:pt x="10840" y="10753"/>
                  <a:pt x="10864" y="10840"/>
                </a:cubicBezTo>
                <a:cubicBezTo>
                  <a:pt x="10971" y="10772"/>
                  <a:pt x="11052" y="10699"/>
                  <a:pt x="10889" y="106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33840" y="3963960"/>
            <a:ext cx="287280" cy="260280"/>
          </a:xfrm>
          <a:custGeom>
            <a:avLst/>
            <a:gdLst/>
            <a:ahLst/>
            <a:rect l="l" t="t" r="r" b="b"/>
            <a:pathLst>
              <a:path w="794" h="721">
                <a:moveTo>
                  <a:pt x="10468" y="11162"/>
                </a:moveTo>
                <a:cubicBezTo>
                  <a:pt x="10451" y="11063"/>
                  <a:pt x="10442" y="11079"/>
                  <a:pt x="10368" y="11013"/>
                </a:cubicBezTo>
                <a:cubicBezTo>
                  <a:pt x="10156" y="11101"/>
                  <a:pt x="10108" y="11156"/>
                  <a:pt x="10120" y="11385"/>
                </a:cubicBezTo>
                <a:cubicBezTo>
                  <a:pt x="10311" y="11338"/>
                  <a:pt x="10341" y="11254"/>
                  <a:pt x="10418" y="11063"/>
                </a:cubicBezTo>
                <a:cubicBezTo>
                  <a:pt x="10454" y="11244"/>
                  <a:pt x="10442" y="11420"/>
                  <a:pt x="10418" y="11609"/>
                </a:cubicBezTo>
                <a:cubicBezTo>
                  <a:pt x="10400" y="11700"/>
                  <a:pt x="10391" y="11775"/>
                  <a:pt x="10393" y="11708"/>
                </a:cubicBezTo>
              </a:path>
              <a:path w="794" h="721">
                <a:moveTo>
                  <a:pt x="10716" y="11038"/>
                </a:moveTo>
                <a:cubicBezTo>
                  <a:pt x="10634" y="11265"/>
                  <a:pt x="10548" y="11440"/>
                  <a:pt x="10641" y="11658"/>
                </a:cubicBezTo>
                <a:cubicBezTo>
                  <a:pt x="10791" y="11538"/>
                  <a:pt x="11048" y="11336"/>
                  <a:pt x="10815" y="11137"/>
                </a:cubicBezTo>
                <a:cubicBezTo>
                  <a:pt x="10774" y="11121"/>
                  <a:pt x="10732" y="11104"/>
                  <a:pt x="10691" y="110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60880" y="3652920"/>
            <a:ext cx="1009440" cy="615960"/>
          </a:xfrm>
          <a:custGeom>
            <a:avLst/>
            <a:gdLst/>
            <a:ahLst/>
            <a:rect l="l" t="t" r="r" b="b"/>
            <a:pathLst>
              <a:path w="2804" h="1713">
                <a:moveTo>
                  <a:pt x="11658" y="10344"/>
                </a:moveTo>
                <a:cubicBezTo>
                  <a:pt x="11647" y="10503"/>
                  <a:pt x="11633" y="10654"/>
                  <a:pt x="11633" y="10815"/>
                </a:cubicBezTo>
                <a:cubicBezTo>
                  <a:pt x="11633" y="10939"/>
                  <a:pt x="11633" y="10964"/>
                  <a:pt x="11633" y="11038"/>
                </a:cubicBezTo>
              </a:path>
              <a:path w="2804" h="1713">
                <a:moveTo>
                  <a:pt x="11658" y="10294"/>
                </a:moveTo>
                <a:cubicBezTo>
                  <a:pt x="11658" y="10262"/>
                  <a:pt x="11658" y="10118"/>
                  <a:pt x="11658" y="10170"/>
                </a:cubicBezTo>
                <a:cubicBezTo>
                  <a:pt x="11658" y="10339"/>
                  <a:pt x="11643" y="10499"/>
                  <a:pt x="11633" y="10666"/>
                </a:cubicBezTo>
                <a:cubicBezTo>
                  <a:pt x="11621" y="10858"/>
                  <a:pt x="11627" y="11047"/>
                  <a:pt x="11609" y="11237"/>
                </a:cubicBezTo>
                <a:cubicBezTo>
                  <a:pt x="11601" y="11323"/>
                  <a:pt x="11569" y="11402"/>
                  <a:pt x="11559" y="11485"/>
                </a:cubicBezTo>
                <a:cubicBezTo>
                  <a:pt x="11546" y="11591"/>
                  <a:pt x="11520" y="11833"/>
                  <a:pt x="11633" y="11857"/>
                </a:cubicBezTo>
                <a:cubicBezTo>
                  <a:pt x="11768" y="11885"/>
                  <a:pt x="11899" y="11822"/>
                  <a:pt x="12030" y="11807"/>
                </a:cubicBezTo>
                <a:cubicBezTo>
                  <a:pt x="12127" y="11796"/>
                  <a:pt x="12233" y="11791"/>
                  <a:pt x="12328" y="11782"/>
                </a:cubicBezTo>
                <a:cubicBezTo>
                  <a:pt x="12437" y="11772"/>
                  <a:pt x="12540" y="11760"/>
                  <a:pt x="12650" y="11757"/>
                </a:cubicBezTo>
                <a:cubicBezTo>
                  <a:pt x="12725" y="11755"/>
                  <a:pt x="12778" y="11778"/>
                  <a:pt x="12849" y="11782"/>
                </a:cubicBezTo>
                <a:cubicBezTo>
                  <a:pt x="12886" y="11784"/>
                  <a:pt x="12973" y="11800"/>
                  <a:pt x="12973" y="11757"/>
                </a:cubicBezTo>
                <a:cubicBezTo>
                  <a:pt x="12965" y="11741"/>
                  <a:pt x="12956" y="11724"/>
                  <a:pt x="12948" y="11708"/>
                </a:cubicBezTo>
              </a:path>
              <a:path w="2804" h="1713">
                <a:moveTo>
                  <a:pt x="13246" y="11137"/>
                </a:moveTo>
                <a:cubicBezTo>
                  <a:pt x="13238" y="11145"/>
                  <a:pt x="13229" y="11154"/>
                  <a:pt x="13221" y="11162"/>
                </a:cubicBezTo>
                <a:cubicBezTo>
                  <a:pt x="13237" y="11194"/>
                  <a:pt x="13289" y="11093"/>
                  <a:pt x="13345" y="11063"/>
                </a:cubicBezTo>
                <a:cubicBezTo>
                  <a:pt x="13481" y="10991"/>
                  <a:pt x="13401" y="11328"/>
                  <a:pt x="13320" y="11460"/>
                </a:cubicBezTo>
                <a:cubicBezTo>
                  <a:pt x="13256" y="11546"/>
                  <a:pt x="13247" y="11579"/>
                  <a:pt x="13171" y="11559"/>
                </a:cubicBezTo>
                <a:cubicBezTo>
                  <a:pt x="13076" y="11496"/>
                  <a:pt x="13270" y="11459"/>
                  <a:pt x="13320" y="11460"/>
                </a:cubicBezTo>
                <a:cubicBezTo>
                  <a:pt x="13501" y="11465"/>
                  <a:pt x="13476" y="11608"/>
                  <a:pt x="13568" y="11485"/>
                </a:cubicBezTo>
              </a:path>
              <a:path w="2804" h="1713">
                <a:moveTo>
                  <a:pt x="13767" y="11038"/>
                </a:moveTo>
                <a:cubicBezTo>
                  <a:pt x="13719" y="11133"/>
                  <a:pt x="13515" y="11414"/>
                  <a:pt x="13667" y="11509"/>
                </a:cubicBezTo>
                <a:cubicBezTo>
                  <a:pt x="13874" y="11640"/>
                  <a:pt x="14097" y="11352"/>
                  <a:pt x="14015" y="11162"/>
                </a:cubicBezTo>
                <a:cubicBezTo>
                  <a:pt x="13962" y="11039"/>
                  <a:pt x="13848" y="11048"/>
                  <a:pt x="13742" y="11038"/>
                </a:cubicBezTo>
              </a:path>
              <a:path w="2804" h="1713">
                <a:moveTo>
                  <a:pt x="14263" y="10740"/>
                </a:moveTo>
                <a:cubicBezTo>
                  <a:pt x="14221" y="10799"/>
                  <a:pt x="14202" y="10846"/>
                  <a:pt x="14188" y="10914"/>
                </a:cubicBezTo>
                <a:cubicBezTo>
                  <a:pt x="14325" y="10886"/>
                  <a:pt x="14407" y="10855"/>
                  <a:pt x="14288" y="107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howcard Gothic"/>
              </a:rPr>
              <a:t>Practice:  Find the Missing Angle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038480" y="2666880"/>
            <a:ext cx="4114800" cy="2197080"/>
            <a:chOff x="4038480" y="2666880"/>
            <a:chExt cx="4114800" cy="2197080"/>
          </a:xfrm>
        </p:grpSpPr>
        <p:sp>
          <p:nvSpPr>
            <p:cNvPr id="282" name=""/>
            <p:cNvSpPr/>
            <p:nvPr/>
          </p:nvSpPr>
          <p:spPr>
            <a:xfrm>
              <a:off x="4038480" y="4419360"/>
              <a:ext cx="41148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867280" y="2666880"/>
              <a:ext cx="0" cy="1752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67280" y="4190760"/>
              <a:ext cx="228600" cy="2286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867280" y="3124080"/>
              <a:ext cx="2133360" cy="1295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360" y="4114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86040" y="3200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33960" y="3276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14840" y="3962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38680" y="4495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43240" y="3657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2" name=""/>
          <p:cNvGraphicFramePr/>
          <p:nvPr/>
        </p:nvGraphicFramePr>
        <p:xfrm>
          <a:off x="380880" y="1981080"/>
          <a:ext cx="304812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30481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946240" y="2670120"/>
            <a:ext cx="108000" cy="142920"/>
          </a:xfrm>
          <a:custGeom>
            <a:avLst/>
            <a:gdLst/>
            <a:ahLst/>
            <a:rect l="l" t="t" r="r" b="b"/>
            <a:pathLst>
              <a:path w="298" h="397">
                <a:moveTo>
                  <a:pt x="8235" y="7417"/>
                </a:moveTo>
                <a:cubicBezTo>
                  <a:pt x="8184" y="7605"/>
                  <a:pt x="8179" y="7641"/>
                  <a:pt x="8260" y="7813"/>
                </a:cubicBezTo>
                <a:cubicBezTo>
                  <a:pt x="8501" y="7728"/>
                  <a:pt x="8554" y="7623"/>
                  <a:pt x="8359" y="74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1240" y="4438800"/>
            <a:ext cx="928800" cy="44280"/>
          </a:xfrm>
          <a:custGeom>
            <a:avLst/>
            <a:gdLst/>
            <a:ahLst/>
            <a:rect l="l" t="t" r="r" b="b"/>
            <a:pathLst>
              <a:path w="2580" h="125">
                <a:moveTo>
                  <a:pt x="2059" y="12378"/>
                </a:moveTo>
                <a:cubicBezTo>
                  <a:pt x="2143" y="12357"/>
                  <a:pt x="2242" y="12333"/>
                  <a:pt x="2332" y="12328"/>
                </a:cubicBezTo>
                <a:cubicBezTo>
                  <a:pt x="2658" y="12311"/>
                  <a:pt x="3000" y="12375"/>
                  <a:pt x="3324" y="12402"/>
                </a:cubicBezTo>
                <a:cubicBezTo>
                  <a:pt x="3646" y="12428"/>
                  <a:pt x="3969" y="12447"/>
                  <a:pt x="4291" y="12452"/>
                </a:cubicBezTo>
                <a:cubicBezTo>
                  <a:pt x="4407" y="12454"/>
                  <a:pt x="4522" y="12452"/>
                  <a:pt x="4638" y="124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16120" y="2714760"/>
            <a:ext cx="563760" cy="2017440"/>
          </a:xfrm>
          <a:custGeom>
            <a:avLst/>
            <a:gdLst/>
            <a:ahLst/>
            <a:rect l="l" t="t" r="r" b="b"/>
            <a:pathLst>
              <a:path w="1563" h="5606">
                <a:moveTo>
                  <a:pt x="8682" y="12898"/>
                </a:moveTo>
                <a:cubicBezTo>
                  <a:pt x="8591" y="12989"/>
                  <a:pt x="8509" y="13273"/>
                  <a:pt x="8756" y="13122"/>
                </a:cubicBezTo>
                <a:cubicBezTo>
                  <a:pt x="8994" y="12976"/>
                  <a:pt x="8706" y="12921"/>
                  <a:pt x="8632" y="12898"/>
                </a:cubicBezTo>
              </a:path>
              <a:path w="1563" h="5606">
                <a:moveTo>
                  <a:pt x="7392" y="7689"/>
                </a:moveTo>
                <a:cubicBezTo>
                  <a:pt x="7336" y="7864"/>
                  <a:pt x="7247" y="8030"/>
                  <a:pt x="7317" y="8186"/>
                </a:cubicBezTo>
                <a:cubicBezTo>
                  <a:pt x="7538" y="8135"/>
                  <a:pt x="7563" y="8122"/>
                  <a:pt x="7714" y="7962"/>
                </a:cubicBezTo>
              </a:path>
              <a:path w="1563" h="5606">
                <a:moveTo>
                  <a:pt x="7739" y="7541"/>
                </a:moveTo>
                <a:cubicBezTo>
                  <a:pt x="7655" y="7830"/>
                  <a:pt x="7621" y="8161"/>
                  <a:pt x="7491" y="8434"/>
                </a:cubicBezTo>
                <a:cubicBezTo>
                  <a:pt x="7491" y="8417"/>
                  <a:pt x="7491" y="8401"/>
                  <a:pt x="7491" y="8384"/>
                </a:cubicBezTo>
              </a:path>
              <a:path w="1563" h="5606">
                <a:moveTo>
                  <a:pt x="8111" y="11137"/>
                </a:moveTo>
                <a:cubicBezTo>
                  <a:pt x="8026" y="11292"/>
                  <a:pt x="8077" y="11618"/>
                  <a:pt x="8285" y="11361"/>
                </a:cubicBezTo>
                <a:cubicBezTo>
                  <a:pt x="8506" y="11087"/>
                  <a:pt x="8151" y="11169"/>
                  <a:pt x="8062" y="111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5880" y="1973160"/>
            <a:ext cx="1992240" cy="1108080"/>
          </a:xfrm>
          <a:custGeom>
            <a:avLst/>
            <a:gdLst/>
            <a:ahLst/>
            <a:rect l="l" t="t" r="r" b="b"/>
            <a:pathLst>
              <a:path w="5532" h="3077">
                <a:moveTo>
                  <a:pt x="2183" y="6722"/>
                </a:moveTo>
                <a:cubicBezTo>
                  <a:pt x="2301" y="6732"/>
                  <a:pt x="2407" y="6760"/>
                  <a:pt x="2530" y="6772"/>
                </a:cubicBezTo>
                <a:cubicBezTo>
                  <a:pt x="2990" y="6819"/>
                  <a:pt x="3457" y="6796"/>
                  <a:pt x="3919" y="6796"/>
                </a:cubicBezTo>
                <a:cubicBezTo>
                  <a:pt x="4175" y="6796"/>
                  <a:pt x="4411" y="6775"/>
                  <a:pt x="4663" y="6747"/>
                </a:cubicBezTo>
                <a:cubicBezTo>
                  <a:pt x="4671" y="6747"/>
                  <a:pt x="4680" y="6747"/>
                  <a:pt x="4688" y="6747"/>
                </a:cubicBezTo>
              </a:path>
              <a:path w="5532" h="3077">
                <a:moveTo>
                  <a:pt x="6548" y="5705"/>
                </a:moveTo>
                <a:cubicBezTo>
                  <a:pt x="6509" y="5786"/>
                  <a:pt x="6544" y="5620"/>
                  <a:pt x="6474" y="5531"/>
                </a:cubicBezTo>
                <a:cubicBezTo>
                  <a:pt x="6294" y="5302"/>
                  <a:pt x="6105" y="5911"/>
                  <a:pt x="6127" y="6052"/>
                </a:cubicBezTo>
                <a:cubicBezTo>
                  <a:pt x="6152" y="6069"/>
                  <a:pt x="6176" y="6085"/>
                  <a:pt x="6201" y="6102"/>
                </a:cubicBezTo>
                <a:cubicBezTo>
                  <a:pt x="6322" y="5988"/>
                  <a:pt x="6392" y="5901"/>
                  <a:pt x="6474" y="5755"/>
                </a:cubicBezTo>
                <a:cubicBezTo>
                  <a:pt x="6513" y="6066"/>
                  <a:pt x="6567" y="6381"/>
                  <a:pt x="6499" y="6697"/>
                </a:cubicBezTo>
                <a:cubicBezTo>
                  <a:pt x="6492" y="6731"/>
                  <a:pt x="6434" y="6728"/>
                  <a:pt x="6697" y="6474"/>
                </a:cubicBezTo>
              </a:path>
              <a:path w="5532" h="3077">
                <a:moveTo>
                  <a:pt x="6995" y="5928"/>
                </a:moveTo>
                <a:cubicBezTo>
                  <a:pt x="6884" y="6067"/>
                  <a:pt x="6677" y="6445"/>
                  <a:pt x="6772" y="6648"/>
                </a:cubicBezTo>
                <a:cubicBezTo>
                  <a:pt x="6813" y="6673"/>
                  <a:pt x="6855" y="6697"/>
                  <a:pt x="6896" y="6722"/>
                </a:cubicBezTo>
                <a:cubicBezTo>
                  <a:pt x="7043" y="6592"/>
                  <a:pt x="7503" y="6178"/>
                  <a:pt x="7193" y="5953"/>
                </a:cubicBezTo>
                <a:cubicBezTo>
                  <a:pt x="7044" y="5845"/>
                  <a:pt x="6766" y="6062"/>
                  <a:pt x="7020" y="5879"/>
                </a:cubicBezTo>
              </a:path>
              <a:path w="5532" h="3077">
                <a:moveTo>
                  <a:pt x="7615" y="5531"/>
                </a:moveTo>
                <a:cubicBezTo>
                  <a:pt x="7560" y="5664"/>
                  <a:pt x="7559" y="5717"/>
                  <a:pt x="7565" y="5854"/>
                </a:cubicBezTo>
                <a:cubicBezTo>
                  <a:pt x="7682" y="5820"/>
                  <a:pt x="7771" y="5737"/>
                  <a:pt x="7689" y="5606"/>
                </a:cubicBezTo>
                <a:cubicBezTo>
                  <a:pt x="7673" y="5598"/>
                  <a:pt x="7656" y="5589"/>
                  <a:pt x="7640" y="5581"/>
                </a:cubicBezTo>
              </a:path>
              <a:path w="5532" h="3077">
                <a:moveTo>
                  <a:pt x="2183" y="8533"/>
                </a:moveTo>
                <a:cubicBezTo>
                  <a:pt x="2368" y="8542"/>
                  <a:pt x="2542" y="8556"/>
                  <a:pt x="2729" y="8558"/>
                </a:cubicBezTo>
                <a:cubicBezTo>
                  <a:pt x="3308" y="8563"/>
                  <a:pt x="3886" y="8558"/>
                  <a:pt x="4465" y="8558"/>
                </a:cubicBezTo>
              </a:path>
              <a:path w="5532" h="3077">
                <a:moveTo>
                  <a:pt x="7119" y="7541"/>
                </a:moveTo>
                <a:cubicBezTo>
                  <a:pt x="7033" y="7527"/>
                  <a:pt x="6962" y="7516"/>
                  <a:pt x="6871" y="7516"/>
                </a:cubicBezTo>
                <a:cubicBezTo>
                  <a:pt x="6857" y="7516"/>
                  <a:pt x="6787" y="7692"/>
                  <a:pt x="6772" y="7739"/>
                </a:cubicBezTo>
                <a:cubicBezTo>
                  <a:pt x="6772" y="7747"/>
                  <a:pt x="6772" y="7756"/>
                  <a:pt x="6772" y="7764"/>
                </a:cubicBezTo>
                <a:cubicBezTo>
                  <a:pt x="6909" y="7798"/>
                  <a:pt x="7076" y="7836"/>
                  <a:pt x="7069" y="8012"/>
                </a:cubicBezTo>
                <a:cubicBezTo>
                  <a:pt x="7058" y="8282"/>
                  <a:pt x="6722" y="8310"/>
                  <a:pt x="6524" y="8260"/>
                </a:cubicBezTo>
                <a:cubicBezTo>
                  <a:pt x="6410" y="8231"/>
                  <a:pt x="6665" y="8134"/>
                  <a:pt x="6772" y="80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28920" y="3990960"/>
            <a:ext cx="376200" cy="349200"/>
          </a:xfrm>
          <a:custGeom>
            <a:avLst/>
            <a:gdLst/>
            <a:ahLst/>
            <a:rect l="l" t="t" r="r" b="b"/>
            <a:pathLst>
              <a:path w="1043" h="968">
                <a:moveTo>
                  <a:pt x="6896" y="11137"/>
                </a:moveTo>
                <a:cubicBezTo>
                  <a:pt x="7105" y="11079"/>
                  <a:pt x="7279" y="11117"/>
                  <a:pt x="7069" y="11361"/>
                </a:cubicBezTo>
                <a:cubicBezTo>
                  <a:pt x="6972" y="11438"/>
                  <a:pt x="6961" y="11456"/>
                  <a:pt x="6896" y="11485"/>
                </a:cubicBezTo>
                <a:cubicBezTo>
                  <a:pt x="7043" y="11369"/>
                  <a:pt x="7260" y="11452"/>
                  <a:pt x="7144" y="11683"/>
                </a:cubicBezTo>
                <a:cubicBezTo>
                  <a:pt x="6998" y="11975"/>
                  <a:pt x="6780" y="11867"/>
                  <a:pt x="6821" y="11609"/>
                </a:cubicBezTo>
              </a:path>
              <a:path w="1043" h="968">
                <a:moveTo>
                  <a:pt x="7441" y="11187"/>
                </a:moveTo>
                <a:cubicBezTo>
                  <a:pt x="7389" y="11378"/>
                  <a:pt x="7218" y="11789"/>
                  <a:pt x="7342" y="11981"/>
                </a:cubicBezTo>
                <a:cubicBezTo>
                  <a:pt x="7383" y="12006"/>
                  <a:pt x="7425" y="12030"/>
                  <a:pt x="7466" y="12055"/>
                </a:cubicBezTo>
                <a:cubicBezTo>
                  <a:pt x="7678" y="11949"/>
                  <a:pt x="7707" y="11927"/>
                  <a:pt x="7789" y="11708"/>
                </a:cubicBezTo>
                <a:cubicBezTo>
                  <a:pt x="7597" y="11742"/>
                  <a:pt x="7451" y="11867"/>
                  <a:pt x="7590" y="120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80" y="3803760"/>
            <a:ext cx="795240" cy="27000"/>
          </a:xfrm>
          <a:custGeom>
            <a:avLst/>
            <a:gdLst/>
            <a:ahLst/>
            <a:rect l="l" t="t" r="r" b="b"/>
            <a:pathLst>
              <a:path w="2209" h="75">
                <a:moveTo>
                  <a:pt x="2108" y="10641"/>
                </a:moveTo>
                <a:cubicBezTo>
                  <a:pt x="2175" y="10633"/>
                  <a:pt x="2238" y="10628"/>
                  <a:pt x="2307" y="10616"/>
                </a:cubicBezTo>
                <a:cubicBezTo>
                  <a:pt x="2389" y="10602"/>
                  <a:pt x="2448" y="10592"/>
                  <a:pt x="2530" y="10592"/>
                </a:cubicBezTo>
                <a:cubicBezTo>
                  <a:pt x="2690" y="10592"/>
                  <a:pt x="2844" y="10603"/>
                  <a:pt x="3001" y="10616"/>
                </a:cubicBezTo>
                <a:cubicBezTo>
                  <a:pt x="3207" y="10633"/>
                  <a:pt x="3420" y="10610"/>
                  <a:pt x="3621" y="10592"/>
                </a:cubicBezTo>
                <a:cubicBezTo>
                  <a:pt x="3737" y="10582"/>
                  <a:pt x="3853" y="10578"/>
                  <a:pt x="3969" y="10567"/>
                </a:cubicBezTo>
                <a:cubicBezTo>
                  <a:pt x="4083" y="10557"/>
                  <a:pt x="4202" y="10567"/>
                  <a:pt x="4316" y="105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374920" y="3313080"/>
            <a:ext cx="635040" cy="384120"/>
          </a:xfrm>
          <a:custGeom>
            <a:avLst/>
            <a:gdLst/>
            <a:ahLst/>
            <a:rect l="l" t="t" r="r" b="b"/>
            <a:pathLst>
              <a:path w="1762" h="1067">
                <a:moveTo>
                  <a:pt x="7020" y="9451"/>
                </a:moveTo>
                <a:cubicBezTo>
                  <a:pt x="7003" y="9348"/>
                  <a:pt x="6928" y="9239"/>
                  <a:pt x="6821" y="9203"/>
                </a:cubicBezTo>
                <a:cubicBezTo>
                  <a:pt x="6631" y="9138"/>
                  <a:pt x="6499" y="9512"/>
                  <a:pt x="6672" y="9599"/>
                </a:cubicBezTo>
                <a:cubicBezTo>
                  <a:pt x="6791" y="9659"/>
                  <a:pt x="6920" y="9416"/>
                  <a:pt x="6970" y="9376"/>
                </a:cubicBezTo>
                <a:cubicBezTo>
                  <a:pt x="6923" y="9637"/>
                  <a:pt x="6873" y="9905"/>
                  <a:pt x="6846" y="10170"/>
                </a:cubicBezTo>
                <a:cubicBezTo>
                  <a:pt x="6846" y="10227"/>
                  <a:pt x="6846" y="10269"/>
                  <a:pt x="6846" y="10220"/>
                </a:cubicBezTo>
              </a:path>
              <a:path w="1762" h="1067">
                <a:moveTo>
                  <a:pt x="7367" y="9500"/>
                </a:moveTo>
                <a:cubicBezTo>
                  <a:pt x="7246" y="9803"/>
                  <a:pt x="7091" y="9992"/>
                  <a:pt x="7243" y="10269"/>
                </a:cubicBezTo>
                <a:cubicBezTo>
                  <a:pt x="7521" y="10174"/>
                  <a:pt x="7821" y="10090"/>
                  <a:pt x="7665" y="9723"/>
                </a:cubicBezTo>
                <a:cubicBezTo>
                  <a:pt x="7556" y="9571"/>
                  <a:pt x="7540" y="9524"/>
                  <a:pt x="7417" y="9500"/>
                </a:cubicBezTo>
              </a:path>
              <a:path w="1762" h="1067">
                <a:moveTo>
                  <a:pt x="8161" y="9252"/>
                </a:moveTo>
                <a:cubicBezTo>
                  <a:pt x="8080" y="9408"/>
                  <a:pt x="8062" y="9749"/>
                  <a:pt x="8310" y="9475"/>
                </a:cubicBezTo>
                <a:cubicBezTo>
                  <a:pt x="8541" y="9220"/>
                  <a:pt x="8056" y="9349"/>
                  <a:pt x="8037" y="93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9960" y="5072040"/>
            <a:ext cx="992160" cy="71640"/>
          </a:xfrm>
          <a:custGeom>
            <a:avLst/>
            <a:gdLst/>
            <a:ahLst/>
            <a:rect l="l" t="t" r="r" b="b"/>
            <a:pathLst>
              <a:path w="2755" h="200">
                <a:moveTo>
                  <a:pt x="1885" y="14089"/>
                </a:moveTo>
                <a:cubicBezTo>
                  <a:pt x="1982" y="14114"/>
                  <a:pt x="2033" y="14112"/>
                  <a:pt x="2133" y="14114"/>
                </a:cubicBezTo>
                <a:cubicBezTo>
                  <a:pt x="2319" y="14118"/>
                  <a:pt x="2494" y="14173"/>
                  <a:pt x="2679" y="14188"/>
                </a:cubicBezTo>
                <a:cubicBezTo>
                  <a:pt x="2869" y="14204"/>
                  <a:pt x="3057" y="14213"/>
                  <a:pt x="3249" y="14213"/>
                </a:cubicBezTo>
                <a:cubicBezTo>
                  <a:pt x="3443" y="14213"/>
                  <a:pt x="3627" y="14272"/>
                  <a:pt x="3820" y="14288"/>
                </a:cubicBezTo>
                <a:cubicBezTo>
                  <a:pt x="4081" y="14309"/>
                  <a:pt x="4352" y="14288"/>
                  <a:pt x="4614" y="142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30280" y="4643280"/>
            <a:ext cx="608040" cy="366840"/>
          </a:xfrm>
          <a:custGeom>
            <a:avLst/>
            <a:gdLst/>
            <a:ahLst/>
            <a:rect l="l" t="t" r="r" b="b"/>
            <a:pathLst>
              <a:path w="1688" h="1018">
                <a:moveTo>
                  <a:pt x="6648" y="12898"/>
                </a:moveTo>
                <a:cubicBezTo>
                  <a:pt x="6629" y="13200"/>
                  <a:pt x="6582" y="13477"/>
                  <a:pt x="6499" y="13767"/>
                </a:cubicBezTo>
                <a:cubicBezTo>
                  <a:pt x="6457" y="13890"/>
                  <a:pt x="6477" y="13871"/>
                  <a:pt x="6598" y="13643"/>
                </a:cubicBezTo>
              </a:path>
              <a:path w="1688" h="1018">
                <a:moveTo>
                  <a:pt x="7119" y="12998"/>
                </a:moveTo>
                <a:cubicBezTo>
                  <a:pt x="6891" y="13286"/>
                  <a:pt x="6886" y="13251"/>
                  <a:pt x="7069" y="13519"/>
                </a:cubicBezTo>
                <a:cubicBezTo>
                  <a:pt x="7199" y="13709"/>
                  <a:pt x="7131" y="13761"/>
                  <a:pt x="7020" y="13915"/>
                </a:cubicBezTo>
                <a:cubicBezTo>
                  <a:pt x="6788" y="13651"/>
                  <a:pt x="7021" y="13399"/>
                  <a:pt x="7218" y="13097"/>
                </a:cubicBezTo>
                <a:cubicBezTo>
                  <a:pt x="7299" y="12974"/>
                  <a:pt x="7158" y="13043"/>
                  <a:pt x="7317" y="13072"/>
                </a:cubicBezTo>
              </a:path>
              <a:path w="1688" h="1018">
                <a:moveTo>
                  <a:pt x="7962" y="13022"/>
                </a:moveTo>
                <a:cubicBezTo>
                  <a:pt x="7751" y="13116"/>
                  <a:pt x="7509" y="13454"/>
                  <a:pt x="7590" y="13742"/>
                </a:cubicBezTo>
                <a:cubicBezTo>
                  <a:pt x="7631" y="13783"/>
                  <a:pt x="7673" y="13825"/>
                  <a:pt x="7714" y="13866"/>
                </a:cubicBezTo>
                <a:cubicBezTo>
                  <a:pt x="7979" y="13747"/>
                  <a:pt x="8340" y="13524"/>
                  <a:pt x="8086" y="13171"/>
                </a:cubicBezTo>
                <a:cubicBezTo>
                  <a:pt x="7965" y="13110"/>
                  <a:pt x="7946" y="13086"/>
                  <a:pt x="7863" y="130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56240" y="4160880"/>
            <a:ext cx="393840" cy="233280"/>
          </a:xfrm>
          <a:custGeom>
            <a:avLst/>
            <a:gdLst/>
            <a:ahLst/>
            <a:rect l="l" t="t" r="r" b="b"/>
            <a:pathLst>
              <a:path w="1092" h="646">
                <a:moveTo>
                  <a:pt x="18058" y="11708"/>
                </a:moveTo>
                <a:cubicBezTo>
                  <a:pt x="18166" y="11708"/>
                  <a:pt x="18373" y="11658"/>
                  <a:pt x="18455" y="11733"/>
                </a:cubicBezTo>
                <a:cubicBezTo>
                  <a:pt x="18447" y="11749"/>
                  <a:pt x="18438" y="11766"/>
                  <a:pt x="18430" y="11782"/>
                </a:cubicBezTo>
                <a:cubicBezTo>
                  <a:pt x="18152" y="11929"/>
                  <a:pt x="18236" y="11854"/>
                  <a:pt x="18479" y="12005"/>
                </a:cubicBezTo>
                <a:cubicBezTo>
                  <a:pt x="18446" y="12029"/>
                  <a:pt x="17857" y="12274"/>
                  <a:pt x="17934" y="12055"/>
                </a:cubicBezTo>
                <a:cubicBezTo>
                  <a:pt x="17984" y="12005"/>
                  <a:pt x="18033" y="11956"/>
                  <a:pt x="18083" y="11906"/>
                </a:cubicBezTo>
              </a:path>
              <a:path w="1092" h="646">
                <a:moveTo>
                  <a:pt x="18777" y="11559"/>
                </a:moveTo>
                <a:cubicBezTo>
                  <a:pt x="18730" y="11677"/>
                  <a:pt x="18637" y="11942"/>
                  <a:pt x="18653" y="12080"/>
                </a:cubicBezTo>
                <a:cubicBezTo>
                  <a:pt x="18679" y="12311"/>
                  <a:pt x="18982" y="12184"/>
                  <a:pt x="19025" y="12030"/>
                </a:cubicBezTo>
                <a:cubicBezTo>
                  <a:pt x="19017" y="12014"/>
                  <a:pt x="19008" y="11997"/>
                  <a:pt x="19000" y="11981"/>
                </a:cubicBezTo>
                <a:cubicBezTo>
                  <a:pt x="18818" y="12092"/>
                  <a:pt x="18718" y="12168"/>
                  <a:pt x="19000" y="121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02280" y="4098960"/>
            <a:ext cx="90720" cy="7128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19298" y="11385"/>
                </a:moveTo>
                <a:cubicBezTo>
                  <a:pt x="19208" y="11555"/>
                  <a:pt x="19237" y="11606"/>
                  <a:pt x="19422" y="11534"/>
                </a:cubicBezTo>
                <a:cubicBezTo>
                  <a:pt x="19373" y="11362"/>
                  <a:pt x="19370" y="11403"/>
                  <a:pt x="19174" y="113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Homework: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rse 2:  Page 127-128 1-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listo MT"/>
              </a:rPr>
              <a:t>Objective:  Students will measure and classify angl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304920"/>
            <a:ext cx="1371600" cy="137160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b0a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3120" y="61070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093" y="16966"/>
                </a:moveTo>
                <a:lnTo>
                  <a:pt x="4093" y="1696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This Next Section Includes…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113920" y="1657440"/>
            <a:ext cx="5124600" cy="5124960"/>
            <a:chOff x="2113920" y="1657440"/>
            <a:chExt cx="5124600" cy="5124960"/>
          </a:xfrm>
        </p:grpSpPr>
        <p:sp>
          <p:nvSpPr>
            <p:cNvPr id="167" name="_s41995"/>
            <p:cNvSpPr/>
            <p:nvPr/>
          </p:nvSpPr>
          <p:spPr>
            <a:xfrm flipH="1">
              <a:off x="3394080" y="4220280"/>
              <a:ext cx="64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41994"/>
            <p:cNvSpPr/>
            <p:nvPr/>
          </p:nvSpPr>
          <p:spPr>
            <a:xfrm>
              <a:off x="2113920" y="3579840"/>
              <a:ext cx="1280160" cy="12798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Straigh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42001"/>
            <p:cNvSpPr/>
            <p:nvPr/>
          </p:nvSpPr>
          <p:spPr>
            <a:xfrm>
              <a:off x="4676400" y="4860000"/>
              <a:ext cx="0" cy="64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42000"/>
            <p:cNvSpPr/>
            <p:nvPr/>
          </p:nvSpPr>
          <p:spPr>
            <a:xfrm>
              <a:off x="4036320" y="5502600"/>
              <a:ext cx="1280160" cy="127980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Obtus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41999"/>
            <p:cNvSpPr/>
            <p:nvPr/>
          </p:nvSpPr>
          <p:spPr>
            <a:xfrm>
              <a:off x="5316840" y="4220280"/>
              <a:ext cx="64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41998"/>
            <p:cNvSpPr/>
            <p:nvPr/>
          </p:nvSpPr>
          <p:spPr>
            <a:xfrm>
              <a:off x="5958720" y="3579840"/>
              <a:ext cx="1279800" cy="1279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41993"/>
            <p:cNvSpPr/>
            <p:nvPr/>
          </p:nvSpPr>
          <p:spPr>
            <a:xfrm flipV="1">
              <a:off x="4676400" y="2937600"/>
              <a:ext cx="0" cy="64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41992"/>
            <p:cNvSpPr/>
            <p:nvPr/>
          </p:nvSpPr>
          <p:spPr>
            <a:xfrm>
              <a:off x="4036320" y="1657440"/>
              <a:ext cx="1280160" cy="1280160"/>
            </a:xfrm>
            <a:prstGeom prst="ellipse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cut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41991"/>
            <p:cNvSpPr/>
            <p:nvPr/>
          </p:nvSpPr>
          <p:spPr>
            <a:xfrm>
              <a:off x="4036320" y="3579840"/>
              <a:ext cx="1280160" cy="1279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ngl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howcard Gothic"/>
              </a:rPr>
              <a:t>Classifying Angle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 angle less than 90 degre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tus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 angle greater than 90 degre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1981080" cy="1274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505320" y="4952880"/>
            <a:ext cx="2771640" cy="125100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3" name="chimes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howcard Gothic"/>
              </a:rPr>
              <a:t>More classifying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ght Ang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 angle that is 90 degre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ight Ang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 angle that is 180 degrees or a straight 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2100240" cy="1371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666880" y="5562720"/>
            <a:ext cx="4067280" cy="295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133800" y="3456000"/>
            <a:ext cx="625320" cy="500040"/>
          </a:xfrm>
          <a:custGeom>
            <a:avLst/>
            <a:gdLst/>
            <a:ahLst/>
            <a:rect l="l" t="t" r="r" b="b"/>
            <a:pathLst>
              <a:path w="1738" h="1390">
                <a:moveTo>
                  <a:pt x="8954" y="10864"/>
                </a:moveTo>
                <a:cubicBezTo>
                  <a:pt x="9045" y="10947"/>
                  <a:pt x="9047" y="10941"/>
                  <a:pt x="9178" y="10964"/>
                </a:cubicBezTo>
                <a:cubicBezTo>
                  <a:pt x="9387" y="11000"/>
                  <a:pt x="9567" y="10965"/>
                  <a:pt x="9773" y="10914"/>
                </a:cubicBezTo>
                <a:cubicBezTo>
                  <a:pt x="9913" y="10880"/>
                  <a:pt x="10021" y="10809"/>
                  <a:pt x="10145" y="10740"/>
                </a:cubicBezTo>
                <a:cubicBezTo>
                  <a:pt x="10211" y="10703"/>
                  <a:pt x="10334" y="10588"/>
                  <a:pt x="10368" y="10517"/>
                </a:cubicBezTo>
                <a:cubicBezTo>
                  <a:pt x="10402" y="10447"/>
                  <a:pt x="10439" y="10322"/>
                  <a:pt x="10443" y="10244"/>
                </a:cubicBezTo>
                <a:cubicBezTo>
                  <a:pt x="10448" y="10150"/>
                  <a:pt x="10430" y="10082"/>
                  <a:pt x="10393" y="9996"/>
                </a:cubicBezTo>
                <a:cubicBezTo>
                  <a:pt x="10358" y="9915"/>
                  <a:pt x="10284" y="9829"/>
                  <a:pt x="10220" y="9773"/>
                </a:cubicBezTo>
                <a:cubicBezTo>
                  <a:pt x="10141" y="9704"/>
                  <a:pt x="9991" y="9659"/>
                  <a:pt x="9897" y="9624"/>
                </a:cubicBezTo>
                <a:cubicBezTo>
                  <a:pt x="9763" y="9575"/>
                  <a:pt x="9610" y="9596"/>
                  <a:pt x="9475" y="9624"/>
                </a:cubicBezTo>
                <a:cubicBezTo>
                  <a:pt x="9299" y="9661"/>
                  <a:pt x="9158" y="9706"/>
                  <a:pt x="9004" y="9798"/>
                </a:cubicBezTo>
                <a:cubicBezTo>
                  <a:pt x="8875" y="9875"/>
                  <a:pt x="8796" y="9935"/>
                  <a:pt x="8756" y="10071"/>
                </a:cubicBezTo>
                <a:cubicBezTo>
                  <a:pt x="8729" y="10162"/>
                  <a:pt x="8680" y="10270"/>
                  <a:pt x="8706" y="10368"/>
                </a:cubicBezTo>
                <a:cubicBezTo>
                  <a:pt x="8733" y="10469"/>
                  <a:pt x="8757" y="10525"/>
                  <a:pt x="8806" y="10616"/>
                </a:cubicBezTo>
                <a:cubicBezTo>
                  <a:pt x="8841" y="10681"/>
                  <a:pt x="8872" y="10697"/>
                  <a:pt x="8930" y="10740"/>
                </a:cubicBezTo>
                <a:cubicBezTo>
                  <a:pt x="8973" y="10772"/>
                  <a:pt x="9032" y="10806"/>
                  <a:pt x="9079" y="10815"/>
                </a:cubicBezTo>
                <a:cubicBezTo>
                  <a:pt x="9139" y="10827"/>
                  <a:pt x="9189" y="10854"/>
                  <a:pt x="9252" y="10864"/>
                </a:cubicBezTo>
                <a:cubicBezTo>
                  <a:pt x="9316" y="10874"/>
                  <a:pt x="9355" y="10889"/>
                  <a:pt x="9426" y="10889"/>
                </a:cubicBezTo>
                <a:cubicBezTo>
                  <a:pt x="9434" y="10889"/>
                  <a:pt x="9443" y="10889"/>
                  <a:pt x="9451" y="108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62640" y="4670280"/>
            <a:ext cx="179280" cy="1054080"/>
          </a:xfrm>
          <a:custGeom>
            <a:avLst/>
            <a:gdLst/>
            <a:ahLst/>
            <a:rect l="l" t="t" r="r" b="b"/>
            <a:pathLst>
              <a:path w="497" h="2928">
                <a:moveTo>
                  <a:pt x="12948" y="15900"/>
                </a:moveTo>
                <a:cubicBezTo>
                  <a:pt x="12936" y="15865"/>
                  <a:pt x="12936" y="15870"/>
                  <a:pt x="12923" y="15825"/>
                </a:cubicBezTo>
                <a:cubicBezTo>
                  <a:pt x="12912" y="15788"/>
                  <a:pt x="12902" y="15739"/>
                  <a:pt x="12898" y="15701"/>
                </a:cubicBezTo>
                <a:cubicBezTo>
                  <a:pt x="12859" y="15351"/>
                  <a:pt x="12909" y="14981"/>
                  <a:pt x="12874" y="14635"/>
                </a:cubicBezTo>
                <a:cubicBezTo>
                  <a:pt x="12860" y="14498"/>
                  <a:pt x="12909" y="14337"/>
                  <a:pt x="12898" y="14213"/>
                </a:cubicBezTo>
                <a:cubicBezTo>
                  <a:pt x="12891" y="14140"/>
                  <a:pt x="12895" y="14071"/>
                  <a:pt x="12898" y="13990"/>
                </a:cubicBezTo>
                <a:cubicBezTo>
                  <a:pt x="12909" y="13660"/>
                  <a:pt x="12898" y="13328"/>
                  <a:pt x="12898" y="12998"/>
                </a:cubicBezTo>
                <a:cubicBezTo>
                  <a:pt x="12820" y="13104"/>
                  <a:pt x="12728" y="13224"/>
                  <a:pt x="12675" y="13345"/>
                </a:cubicBezTo>
                <a:cubicBezTo>
                  <a:pt x="12675" y="13353"/>
                  <a:pt x="12675" y="13362"/>
                  <a:pt x="12675" y="13370"/>
                </a:cubicBezTo>
                <a:cubicBezTo>
                  <a:pt x="12699" y="13308"/>
                  <a:pt x="12725" y="13239"/>
                  <a:pt x="12750" y="13171"/>
                </a:cubicBezTo>
                <a:cubicBezTo>
                  <a:pt x="12779" y="13091"/>
                  <a:pt x="12778" y="13057"/>
                  <a:pt x="12799" y="12998"/>
                </a:cubicBezTo>
                <a:cubicBezTo>
                  <a:pt x="12833" y="12989"/>
                  <a:pt x="12853" y="12971"/>
                  <a:pt x="12874" y="12973"/>
                </a:cubicBezTo>
                <a:cubicBezTo>
                  <a:pt x="12922" y="12979"/>
                  <a:pt x="12976" y="13061"/>
                  <a:pt x="12998" y="13097"/>
                </a:cubicBezTo>
                <a:cubicBezTo>
                  <a:pt x="13045" y="13175"/>
                  <a:pt x="13097" y="13278"/>
                  <a:pt x="13146" y="13345"/>
                </a:cubicBezTo>
                <a:cubicBezTo>
                  <a:pt x="13171" y="13345"/>
                  <a:pt x="13179" y="13345"/>
                  <a:pt x="13171" y="133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70280" y="5554800"/>
            <a:ext cx="125640" cy="17928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12998" y="15478"/>
                </a:moveTo>
                <a:cubicBezTo>
                  <a:pt x="12990" y="15478"/>
                  <a:pt x="12981" y="15478"/>
                  <a:pt x="12973" y="15478"/>
                </a:cubicBezTo>
                <a:cubicBezTo>
                  <a:pt x="13021" y="15430"/>
                  <a:pt x="13089" y="15429"/>
                  <a:pt x="13171" y="15429"/>
                </a:cubicBezTo>
                <a:cubicBezTo>
                  <a:pt x="13196" y="15429"/>
                  <a:pt x="13221" y="15429"/>
                  <a:pt x="13246" y="15429"/>
                </a:cubicBezTo>
                <a:cubicBezTo>
                  <a:pt x="13246" y="15525"/>
                  <a:pt x="13285" y="15607"/>
                  <a:pt x="13295" y="15701"/>
                </a:cubicBezTo>
                <a:cubicBezTo>
                  <a:pt x="13303" y="15772"/>
                  <a:pt x="13313" y="15834"/>
                  <a:pt x="13320" y="15900"/>
                </a:cubicBezTo>
                <a:cubicBezTo>
                  <a:pt x="13320" y="15908"/>
                  <a:pt x="13320" y="15917"/>
                  <a:pt x="13320" y="159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30840" y="5322960"/>
            <a:ext cx="152280" cy="268200"/>
          </a:xfrm>
          <a:custGeom>
            <a:avLst/>
            <a:gdLst/>
            <a:ahLst/>
            <a:rect l="l" t="t" r="r" b="b"/>
            <a:pathLst>
              <a:path w="423" h="745">
                <a:moveTo>
                  <a:pt x="13667" y="14908"/>
                </a:moveTo>
                <a:cubicBezTo>
                  <a:pt x="13636" y="14814"/>
                  <a:pt x="13623" y="14827"/>
                  <a:pt x="13543" y="14784"/>
                </a:cubicBezTo>
                <a:cubicBezTo>
                  <a:pt x="13515" y="14814"/>
                  <a:pt x="13306" y="15180"/>
                  <a:pt x="13494" y="15156"/>
                </a:cubicBezTo>
                <a:cubicBezTo>
                  <a:pt x="13618" y="15081"/>
                  <a:pt x="13659" y="15056"/>
                  <a:pt x="13692" y="14957"/>
                </a:cubicBezTo>
                <a:cubicBezTo>
                  <a:pt x="13700" y="14932"/>
                  <a:pt x="13709" y="14908"/>
                  <a:pt x="13717" y="14883"/>
                </a:cubicBezTo>
                <a:cubicBezTo>
                  <a:pt x="13740" y="15084"/>
                  <a:pt x="13759" y="15283"/>
                  <a:pt x="13816" y="15478"/>
                </a:cubicBezTo>
                <a:cubicBezTo>
                  <a:pt x="13844" y="15534"/>
                  <a:pt x="13852" y="15544"/>
                  <a:pt x="13841" y="154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00760" y="5322960"/>
            <a:ext cx="98280" cy="177840"/>
          </a:xfrm>
          <a:custGeom>
            <a:avLst/>
            <a:gdLst/>
            <a:ahLst/>
            <a:rect l="l" t="t" r="r" b="b"/>
            <a:pathLst>
              <a:path w="273" h="497">
                <a:moveTo>
                  <a:pt x="13940" y="14808"/>
                </a:moveTo>
                <a:cubicBezTo>
                  <a:pt x="13923" y="15014"/>
                  <a:pt x="13903" y="15135"/>
                  <a:pt x="14064" y="15280"/>
                </a:cubicBezTo>
                <a:cubicBezTo>
                  <a:pt x="14136" y="15137"/>
                  <a:pt x="14276" y="14858"/>
                  <a:pt x="14039" y="14784"/>
                </a:cubicBezTo>
                <a:cubicBezTo>
                  <a:pt x="13948" y="14784"/>
                  <a:pt x="13940" y="14784"/>
                  <a:pt x="13891" y="147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89680" y="5106960"/>
            <a:ext cx="36360" cy="73080"/>
          </a:xfrm>
          <a:custGeom>
            <a:avLst/>
            <a:gdLst/>
            <a:ahLst/>
            <a:rect l="l" t="t" r="r" b="b"/>
            <a:pathLst>
              <a:path w="100" h="200">
                <a:moveTo>
                  <a:pt x="14163" y="14188"/>
                </a:moveTo>
                <a:cubicBezTo>
                  <a:pt x="14139" y="14288"/>
                  <a:pt x="14131" y="14321"/>
                  <a:pt x="14163" y="14387"/>
                </a:cubicBezTo>
                <a:cubicBezTo>
                  <a:pt x="14218" y="14308"/>
                  <a:pt x="14293" y="14232"/>
                  <a:pt x="14163" y="142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00720" y="5562720"/>
            <a:ext cx="115560" cy="134640"/>
          </a:xfrm>
          <a:custGeom>
            <a:avLst/>
            <a:gdLst/>
            <a:ahLst/>
            <a:rect l="l" t="t" r="r" b="b"/>
            <a:pathLst>
              <a:path w="323" h="373">
                <a:moveTo>
                  <a:pt x="12774" y="15453"/>
                </a:moveTo>
                <a:cubicBezTo>
                  <a:pt x="12799" y="15453"/>
                  <a:pt x="12807" y="15453"/>
                  <a:pt x="12824" y="15453"/>
                </a:cubicBezTo>
                <a:cubicBezTo>
                  <a:pt x="12717" y="15453"/>
                  <a:pt x="12609" y="15453"/>
                  <a:pt x="12502" y="15453"/>
                </a:cubicBezTo>
                <a:cubicBezTo>
                  <a:pt x="12502" y="15563"/>
                  <a:pt x="12500" y="15703"/>
                  <a:pt x="12526" y="15776"/>
                </a:cubicBezTo>
                <a:cubicBezTo>
                  <a:pt x="12528" y="15781"/>
                  <a:pt x="12526" y="15867"/>
                  <a:pt x="12526" y="158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52960" y="5384880"/>
            <a:ext cx="160200" cy="187200"/>
          </a:xfrm>
          <a:custGeom>
            <a:avLst/>
            <a:gdLst/>
            <a:ahLst/>
            <a:rect l="l" t="t" r="r" b="b"/>
            <a:pathLst>
              <a:path w="448" h="522">
                <a:moveTo>
                  <a:pt x="11832" y="15106"/>
                </a:moveTo>
                <a:cubicBezTo>
                  <a:pt x="11773" y="14999"/>
                  <a:pt x="11769" y="15005"/>
                  <a:pt x="11658" y="14957"/>
                </a:cubicBezTo>
                <a:cubicBezTo>
                  <a:pt x="11487" y="15089"/>
                  <a:pt x="11533" y="15174"/>
                  <a:pt x="11609" y="15379"/>
                </a:cubicBezTo>
                <a:cubicBezTo>
                  <a:pt x="11768" y="15326"/>
                  <a:pt x="11881" y="15262"/>
                  <a:pt x="11832" y="15056"/>
                </a:cubicBezTo>
                <a:cubicBezTo>
                  <a:pt x="11807" y="15056"/>
                  <a:pt x="11799" y="15056"/>
                  <a:pt x="11832" y="15056"/>
                </a:cubicBezTo>
                <a:cubicBezTo>
                  <a:pt x="11877" y="15198"/>
                  <a:pt x="11945" y="15336"/>
                  <a:pt x="11981" y="154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13160" y="5276880"/>
            <a:ext cx="115920" cy="233280"/>
          </a:xfrm>
          <a:custGeom>
            <a:avLst/>
            <a:gdLst/>
            <a:ahLst/>
            <a:rect l="l" t="t" r="r" b="b"/>
            <a:pathLst>
              <a:path w="323" h="645">
                <a:moveTo>
                  <a:pt x="11981" y="14883"/>
                </a:moveTo>
                <a:cubicBezTo>
                  <a:pt x="11981" y="15012"/>
                  <a:pt x="12018" y="15180"/>
                  <a:pt x="12105" y="15280"/>
                </a:cubicBezTo>
                <a:cubicBezTo>
                  <a:pt x="12130" y="15288"/>
                  <a:pt x="12154" y="15296"/>
                  <a:pt x="12179" y="15304"/>
                </a:cubicBezTo>
                <a:cubicBezTo>
                  <a:pt x="12292" y="15182"/>
                  <a:pt x="12397" y="14945"/>
                  <a:pt x="12204" y="14808"/>
                </a:cubicBezTo>
                <a:cubicBezTo>
                  <a:pt x="12025" y="14681"/>
                  <a:pt x="12001" y="14930"/>
                  <a:pt x="12055" y="146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0800" y="5106960"/>
            <a:ext cx="36360" cy="81000"/>
          </a:xfrm>
          <a:custGeom>
            <a:avLst/>
            <a:gdLst/>
            <a:ahLst/>
            <a:rect l="l" t="t" r="r" b="b"/>
            <a:pathLst>
              <a:path w="100" h="225">
                <a:moveTo>
                  <a:pt x="12105" y="14188"/>
                </a:moveTo>
                <a:cubicBezTo>
                  <a:pt x="12068" y="14279"/>
                  <a:pt x="12062" y="14322"/>
                  <a:pt x="12080" y="14412"/>
                </a:cubicBezTo>
                <a:cubicBezTo>
                  <a:pt x="12109" y="14362"/>
                  <a:pt x="12187" y="14186"/>
                  <a:pt x="12055" y="14263"/>
                </a:cubicBezTo>
                <a:cubicBezTo>
                  <a:pt x="12047" y="14271"/>
                  <a:pt x="12038" y="14280"/>
                  <a:pt x="12030" y="142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75080" y="5946840"/>
            <a:ext cx="108000" cy="349200"/>
          </a:xfrm>
          <a:custGeom>
            <a:avLst/>
            <a:gdLst/>
            <a:ahLst/>
            <a:rect l="l" t="t" r="r" b="b"/>
            <a:pathLst>
              <a:path w="299" h="968">
                <a:moveTo>
                  <a:pt x="12154" y="16520"/>
                </a:moveTo>
                <a:cubicBezTo>
                  <a:pt x="12211" y="16775"/>
                  <a:pt x="12304" y="17037"/>
                  <a:pt x="12378" y="17289"/>
                </a:cubicBezTo>
                <a:cubicBezTo>
                  <a:pt x="12452" y="17541"/>
                  <a:pt x="12452" y="17506"/>
                  <a:pt x="12452" y="172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45000" y="5902200"/>
            <a:ext cx="135000" cy="304920"/>
          </a:xfrm>
          <a:custGeom>
            <a:avLst/>
            <a:gdLst/>
            <a:ahLst/>
            <a:rect l="l" t="t" r="r" b="b"/>
            <a:pathLst>
              <a:path w="373" h="844">
                <a:moveTo>
                  <a:pt x="12898" y="16396"/>
                </a:moveTo>
                <a:cubicBezTo>
                  <a:pt x="12823" y="16501"/>
                  <a:pt x="12737" y="16621"/>
                  <a:pt x="12675" y="16743"/>
                </a:cubicBezTo>
                <a:cubicBezTo>
                  <a:pt x="12659" y="16784"/>
                  <a:pt x="12642" y="16826"/>
                  <a:pt x="12626" y="16867"/>
                </a:cubicBezTo>
                <a:cubicBezTo>
                  <a:pt x="12718" y="16949"/>
                  <a:pt x="12957" y="16931"/>
                  <a:pt x="12998" y="17090"/>
                </a:cubicBezTo>
                <a:cubicBezTo>
                  <a:pt x="12978" y="17191"/>
                  <a:pt x="12990" y="17222"/>
                  <a:pt x="12923" y="17239"/>
                </a:cubicBezTo>
                <a:cubicBezTo>
                  <a:pt x="12783" y="17028"/>
                  <a:pt x="12855" y="16870"/>
                  <a:pt x="12874" y="16619"/>
                </a:cubicBezTo>
                <a:cubicBezTo>
                  <a:pt x="12886" y="16470"/>
                  <a:pt x="12847" y="16527"/>
                  <a:pt x="12898" y="165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32200" y="5919840"/>
            <a:ext cx="108000" cy="233280"/>
          </a:xfrm>
          <a:custGeom>
            <a:avLst/>
            <a:gdLst/>
            <a:ahLst/>
            <a:rect l="l" t="t" r="r" b="b"/>
            <a:pathLst>
              <a:path w="299" h="645">
                <a:moveTo>
                  <a:pt x="13196" y="16446"/>
                </a:moveTo>
                <a:cubicBezTo>
                  <a:pt x="13101" y="16564"/>
                  <a:pt x="13158" y="16839"/>
                  <a:pt x="13221" y="16991"/>
                </a:cubicBezTo>
                <a:cubicBezTo>
                  <a:pt x="13285" y="17077"/>
                  <a:pt x="13294" y="17110"/>
                  <a:pt x="13370" y="17090"/>
                </a:cubicBezTo>
                <a:cubicBezTo>
                  <a:pt x="13456" y="16880"/>
                  <a:pt x="13505" y="16690"/>
                  <a:pt x="13271" y="16545"/>
                </a:cubicBezTo>
                <a:cubicBezTo>
                  <a:pt x="13186" y="16524"/>
                  <a:pt x="13160" y="16530"/>
                  <a:pt x="13146" y="164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30840" y="5813280"/>
            <a:ext cx="54000" cy="98640"/>
          </a:xfrm>
          <a:custGeom>
            <a:avLst/>
            <a:gdLst/>
            <a:ahLst/>
            <a:rect l="l" t="t" r="r" b="b"/>
            <a:pathLst>
              <a:path w="150" h="274">
                <a:moveTo>
                  <a:pt x="13494" y="16148"/>
                </a:moveTo>
                <a:cubicBezTo>
                  <a:pt x="13479" y="16237"/>
                  <a:pt x="13432" y="16336"/>
                  <a:pt x="13494" y="16421"/>
                </a:cubicBezTo>
                <a:cubicBezTo>
                  <a:pt x="13502" y="16421"/>
                  <a:pt x="13511" y="16421"/>
                  <a:pt x="13519" y="16421"/>
                </a:cubicBezTo>
                <a:cubicBezTo>
                  <a:pt x="13553" y="16284"/>
                  <a:pt x="13610" y="16096"/>
                  <a:pt x="13419" y="162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3" name="applause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howcard Gothic"/>
              </a:rPr>
              <a:t>Naming Angles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les can be named with one letter (Its’ vertex) or thre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057400" y="2743200"/>
            <a:ext cx="4362480" cy="2882880"/>
            <a:chOff x="2057400" y="2743200"/>
            <a:chExt cx="4362480" cy="2882880"/>
          </a:xfrm>
        </p:grpSpPr>
        <p:grpSp>
          <p:nvGrpSpPr>
            <p:cNvPr id="201" name=""/>
            <p:cNvGrpSpPr/>
            <p:nvPr/>
          </p:nvGrpSpPr>
          <p:grpSpPr>
            <a:xfrm>
              <a:off x="2057400" y="2743200"/>
              <a:ext cx="4362480" cy="2882880"/>
              <a:chOff x="2057400" y="2743200"/>
              <a:chExt cx="4362480" cy="2882880"/>
            </a:xfrm>
          </p:grpSpPr>
          <p:pic>
            <p:nvPicPr>
              <p:cNvPr id="2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38280" y="2743200"/>
                <a:ext cx="3981600" cy="25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4419360" y="297180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352680" y="380988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057400" y="495288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57800" y="525780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733920" y="4114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42960" y="3241800"/>
            <a:ext cx="2278080" cy="2822400"/>
          </a:xfrm>
          <a:custGeom>
            <a:avLst/>
            <a:gdLst/>
            <a:ahLst/>
            <a:rect l="l" t="t" r="r" b="b"/>
            <a:pathLst>
              <a:path w="6326" h="7839">
                <a:moveTo>
                  <a:pt x="3473" y="9153"/>
                </a:moveTo>
                <a:cubicBezTo>
                  <a:pt x="3465" y="9154"/>
                  <a:pt x="3417" y="9159"/>
                  <a:pt x="3373" y="9203"/>
                </a:cubicBezTo>
                <a:cubicBezTo>
                  <a:pt x="3340" y="9236"/>
                  <a:pt x="3289" y="9276"/>
                  <a:pt x="3249" y="9302"/>
                </a:cubicBezTo>
                <a:cubicBezTo>
                  <a:pt x="3193" y="9339"/>
                  <a:pt x="3122" y="9371"/>
                  <a:pt x="3076" y="9401"/>
                </a:cubicBezTo>
                <a:cubicBezTo>
                  <a:pt x="3054" y="9415"/>
                  <a:pt x="2982" y="9495"/>
                  <a:pt x="2952" y="9525"/>
                </a:cubicBezTo>
                <a:cubicBezTo>
                  <a:pt x="2913" y="9564"/>
                  <a:pt x="2888" y="9588"/>
                  <a:pt x="2853" y="9624"/>
                </a:cubicBezTo>
                <a:cubicBezTo>
                  <a:pt x="2829" y="9648"/>
                  <a:pt x="2818" y="9691"/>
                  <a:pt x="2803" y="9699"/>
                </a:cubicBezTo>
                <a:cubicBezTo>
                  <a:pt x="2795" y="9699"/>
                  <a:pt x="2786" y="9699"/>
                  <a:pt x="2778" y="9699"/>
                </a:cubicBezTo>
                <a:cubicBezTo>
                  <a:pt x="2980" y="9699"/>
                  <a:pt x="3234" y="9691"/>
                  <a:pt x="3398" y="9723"/>
                </a:cubicBezTo>
                <a:cubicBezTo>
                  <a:pt x="3463" y="9736"/>
                  <a:pt x="3540" y="9736"/>
                  <a:pt x="3597" y="9748"/>
                </a:cubicBezTo>
                <a:cubicBezTo>
                  <a:pt x="3634" y="9756"/>
                  <a:pt x="3715" y="9772"/>
                  <a:pt x="3721" y="9773"/>
                </a:cubicBezTo>
                <a:cubicBezTo>
                  <a:pt x="3751" y="9779"/>
                  <a:pt x="3789" y="9773"/>
                  <a:pt x="3820" y="9773"/>
                </a:cubicBezTo>
              </a:path>
              <a:path w="6326" h="7839">
                <a:moveTo>
                  <a:pt x="4390" y="9947"/>
                </a:moveTo>
                <a:cubicBezTo>
                  <a:pt x="4527" y="9947"/>
                  <a:pt x="4654" y="9951"/>
                  <a:pt x="4787" y="9971"/>
                </a:cubicBezTo>
                <a:cubicBezTo>
                  <a:pt x="4853" y="9981"/>
                  <a:pt x="4920" y="10011"/>
                  <a:pt x="4986" y="10021"/>
                </a:cubicBezTo>
                <a:cubicBezTo>
                  <a:pt x="5063" y="10033"/>
                  <a:pt x="5156" y="10021"/>
                  <a:pt x="5234" y="10021"/>
                </a:cubicBezTo>
              </a:path>
              <a:path w="6326" h="7839">
                <a:moveTo>
                  <a:pt x="5755" y="10046"/>
                </a:moveTo>
                <a:cubicBezTo>
                  <a:pt x="5857" y="10046"/>
                  <a:pt x="5951" y="10010"/>
                  <a:pt x="6052" y="10021"/>
                </a:cubicBezTo>
                <a:cubicBezTo>
                  <a:pt x="6147" y="10032"/>
                  <a:pt x="6267" y="10061"/>
                  <a:pt x="6350" y="10071"/>
                </a:cubicBezTo>
                <a:cubicBezTo>
                  <a:pt x="6411" y="10078"/>
                  <a:pt x="6485" y="10071"/>
                  <a:pt x="6548" y="10071"/>
                </a:cubicBezTo>
              </a:path>
              <a:path w="6326" h="7839">
                <a:moveTo>
                  <a:pt x="7020" y="10021"/>
                </a:moveTo>
                <a:cubicBezTo>
                  <a:pt x="7128" y="10021"/>
                  <a:pt x="7232" y="10044"/>
                  <a:pt x="7342" y="10046"/>
                </a:cubicBezTo>
                <a:cubicBezTo>
                  <a:pt x="7479" y="10049"/>
                  <a:pt x="7605" y="10060"/>
                  <a:pt x="7739" y="10071"/>
                </a:cubicBezTo>
                <a:cubicBezTo>
                  <a:pt x="7747" y="10071"/>
                  <a:pt x="7756" y="10071"/>
                  <a:pt x="7764" y="10071"/>
                </a:cubicBezTo>
              </a:path>
              <a:path w="6326" h="7839">
                <a:moveTo>
                  <a:pt x="5879" y="15106"/>
                </a:moveTo>
                <a:cubicBezTo>
                  <a:pt x="6059" y="15132"/>
                  <a:pt x="6244" y="15151"/>
                  <a:pt x="6424" y="15180"/>
                </a:cubicBezTo>
                <a:cubicBezTo>
                  <a:pt x="6710" y="15227"/>
                  <a:pt x="7054" y="15328"/>
                  <a:pt x="7342" y="15255"/>
                </a:cubicBezTo>
                <a:cubicBezTo>
                  <a:pt x="7645" y="15179"/>
                  <a:pt x="7987" y="14971"/>
                  <a:pt x="8086" y="14660"/>
                </a:cubicBezTo>
                <a:cubicBezTo>
                  <a:pt x="8148" y="14465"/>
                  <a:pt x="8107" y="14264"/>
                  <a:pt x="8012" y="14089"/>
                </a:cubicBezTo>
                <a:cubicBezTo>
                  <a:pt x="7932" y="13942"/>
                  <a:pt x="7801" y="13768"/>
                  <a:pt x="7665" y="13667"/>
                </a:cubicBezTo>
                <a:cubicBezTo>
                  <a:pt x="7486" y="13535"/>
                  <a:pt x="7275" y="13524"/>
                  <a:pt x="7069" y="13469"/>
                </a:cubicBezTo>
                <a:cubicBezTo>
                  <a:pt x="6808" y="13400"/>
                  <a:pt x="6612" y="13427"/>
                  <a:pt x="6350" y="13494"/>
                </a:cubicBezTo>
                <a:cubicBezTo>
                  <a:pt x="6061" y="13568"/>
                  <a:pt x="5818" y="13703"/>
                  <a:pt x="5631" y="13940"/>
                </a:cubicBezTo>
                <a:cubicBezTo>
                  <a:pt x="5463" y="14152"/>
                  <a:pt x="5454" y="14378"/>
                  <a:pt x="5482" y="14635"/>
                </a:cubicBezTo>
                <a:cubicBezTo>
                  <a:pt x="5505" y="14841"/>
                  <a:pt x="5630" y="15056"/>
                  <a:pt x="5779" y="15205"/>
                </a:cubicBezTo>
                <a:cubicBezTo>
                  <a:pt x="5878" y="15304"/>
                  <a:pt x="6073" y="15364"/>
                  <a:pt x="6201" y="15404"/>
                </a:cubicBezTo>
                <a:cubicBezTo>
                  <a:pt x="6308" y="15438"/>
                  <a:pt x="6413" y="15429"/>
                  <a:pt x="6524" y="15429"/>
                </a:cubicBezTo>
                <a:cubicBezTo>
                  <a:pt x="6532" y="15429"/>
                  <a:pt x="6540" y="15429"/>
                  <a:pt x="6548" y="15429"/>
                </a:cubicBezTo>
              </a:path>
              <a:path w="6326" h="7839">
                <a:moveTo>
                  <a:pt x="6152" y="9103"/>
                </a:moveTo>
                <a:cubicBezTo>
                  <a:pt x="6236" y="9061"/>
                  <a:pt x="6108" y="9012"/>
                  <a:pt x="6028" y="9004"/>
                </a:cubicBezTo>
                <a:cubicBezTo>
                  <a:pt x="5909" y="8991"/>
                  <a:pt x="5863" y="9170"/>
                  <a:pt x="5829" y="9252"/>
                </a:cubicBezTo>
                <a:cubicBezTo>
                  <a:pt x="5755" y="9428"/>
                  <a:pt x="5755" y="9555"/>
                  <a:pt x="5879" y="9699"/>
                </a:cubicBezTo>
                <a:cubicBezTo>
                  <a:pt x="6010" y="9851"/>
                  <a:pt x="6080" y="9781"/>
                  <a:pt x="6226" y="9699"/>
                </a:cubicBezTo>
                <a:cubicBezTo>
                  <a:pt x="6361" y="9624"/>
                  <a:pt x="6420" y="9628"/>
                  <a:pt x="6449" y="9475"/>
                </a:cubicBezTo>
                <a:cubicBezTo>
                  <a:pt x="6449" y="9451"/>
                  <a:pt x="6449" y="9442"/>
                  <a:pt x="6449" y="9426"/>
                </a:cubicBezTo>
                <a:cubicBezTo>
                  <a:pt x="6384" y="9377"/>
                  <a:pt x="6385" y="9420"/>
                  <a:pt x="6300" y="9426"/>
                </a:cubicBezTo>
                <a:cubicBezTo>
                  <a:pt x="6195" y="9434"/>
                  <a:pt x="6106" y="9438"/>
                  <a:pt x="6003" y="9451"/>
                </a:cubicBezTo>
              </a:path>
              <a:path w="6326" h="7839">
                <a:moveTo>
                  <a:pt x="4490" y="9203"/>
                </a:moveTo>
                <a:cubicBezTo>
                  <a:pt x="4502" y="9166"/>
                  <a:pt x="4514" y="9181"/>
                  <a:pt x="4514" y="9128"/>
                </a:cubicBezTo>
                <a:cubicBezTo>
                  <a:pt x="4514" y="9100"/>
                  <a:pt x="4516" y="9089"/>
                  <a:pt x="4539" y="9079"/>
                </a:cubicBezTo>
                <a:cubicBezTo>
                  <a:pt x="4539" y="8954"/>
                  <a:pt x="4541" y="9279"/>
                  <a:pt x="4514" y="9401"/>
                </a:cubicBezTo>
                <a:cubicBezTo>
                  <a:pt x="4491" y="9505"/>
                  <a:pt x="4460" y="9599"/>
                  <a:pt x="4440" y="9699"/>
                </a:cubicBezTo>
                <a:cubicBezTo>
                  <a:pt x="4588" y="9682"/>
                  <a:pt x="4710" y="9690"/>
                  <a:pt x="4862" y="9699"/>
                </a:cubicBezTo>
                <a:cubicBezTo>
                  <a:pt x="4954" y="9705"/>
                  <a:pt x="5044" y="9723"/>
                  <a:pt x="5135" y="9723"/>
                </a:cubicBezTo>
              </a:path>
              <a:path w="6326" h="7839">
                <a:moveTo>
                  <a:pt x="4688" y="9376"/>
                </a:moveTo>
                <a:cubicBezTo>
                  <a:pt x="4688" y="9351"/>
                  <a:pt x="4688" y="9343"/>
                  <a:pt x="4663" y="9351"/>
                </a:cubicBezTo>
                <a:cubicBezTo>
                  <a:pt x="4805" y="9351"/>
                  <a:pt x="4972" y="9354"/>
                  <a:pt x="5110" y="9327"/>
                </a:cubicBezTo>
                <a:cubicBezTo>
                  <a:pt x="5135" y="9302"/>
                  <a:pt x="5143" y="9294"/>
                  <a:pt x="5159" y="9327"/>
                </a:cubicBezTo>
              </a:path>
              <a:path w="6326" h="7839">
                <a:moveTo>
                  <a:pt x="4663" y="9079"/>
                </a:moveTo>
                <a:cubicBezTo>
                  <a:pt x="4663" y="9054"/>
                  <a:pt x="4663" y="9046"/>
                  <a:pt x="4638" y="9054"/>
                </a:cubicBezTo>
                <a:cubicBezTo>
                  <a:pt x="4785" y="9054"/>
                  <a:pt x="4940" y="9046"/>
                  <a:pt x="5085" y="9029"/>
                </a:cubicBezTo>
                <a:cubicBezTo>
                  <a:pt x="5144" y="9022"/>
                  <a:pt x="5240" y="8971"/>
                  <a:pt x="5259" y="9029"/>
                </a:cubicBezTo>
              </a:path>
              <a:path w="6326" h="7839">
                <a:moveTo>
                  <a:pt x="7193" y="9277"/>
                </a:moveTo>
                <a:cubicBezTo>
                  <a:pt x="7193" y="9157"/>
                  <a:pt x="7172" y="9324"/>
                  <a:pt x="7169" y="9351"/>
                </a:cubicBezTo>
                <a:cubicBezTo>
                  <a:pt x="7157" y="9457"/>
                  <a:pt x="7022" y="9804"/>
                  <a:pt x="7069" y="9897"/>
                </a:cubicBezTo>
                <a:cubicBezTo>
                  <a:pt x="7094" y="9897"/>
                  <a:pt x="7102" y="9897"/>
                  <a:pt x="7094" y="9872"/>
                </a:cubicBezTo>
              </a:path>
              <a:path w="6326" h="7839">
                <a:moveTo>
                  <a:pt x="7441" y="9178"/>
                </a:moveTo>
                <a:cubicBezTo>
                  <a:pt x="7468" y="9098"/>
                  <a:pt x="7490" y="9266"/>
                  <a:pt x="7491" y="9351"/>
                </a:cubicBezTo>
                <a:cubicBezTo>
                  <a:pt x="7494" y="9525"/>
                  <a:pt x="7469" y="9680"/>
                  <a:pt x="7441" y="9847"/>
                </a:cubicBezTo>
              </a:path>
              <a:path w="6326" h="7839">
                <a:moveTo>
                  <a:pt x="7119" y="9575"/>
                </a:moveTo>
                <a:cubicBezTo>
                  <a:pt x="7210" y="9575"/>
                  <a:pt x="7304" y="9546"/>
                  <a:pt x="7392" y="9525"/>
                </a:cubicBezTo>
                <a:cubicBezTo>
                  <a:pt x="7466" y="9506"/>
                  <a:pt x="7473" y="9498"/>
                  <a:pt x="7516" y="9500"/>
                </a:cubicBezTo>
              </a:path>
              <a:path w="6326" h="7839">
                <a:moveTo>
                  <a:pt x="3522" y="10815"/>
                </a:moveTo>
                <a:cubicBezTo>
                  <a:pt x="3441" y="10896"/>
                  <a:pt x="3408" y="10959"/>
                  <a:pt x="3324" y="11038"/>
                </a:cubicBezTo>
                <a:cubicBezTo>
                  <a:pt x="3203" y="11151"/>
                  <a:pt x="3080" y="11253"/>
                  <a:pt x="2977" y="11385"/>
                </a:cubicBezTo>
                <a:cubicBezTo>
                  <a:pt x="2914" y="11465"/>
                  <a:pt x="2861" y="11557"/>
                  <a:pt x="2803" y="11633"/>
                </a:cubicBezTo>
                <a:cubicBezTo>
                  <a:pt x="2742" y="11712"/>
                  <a:pt x="2674" y="11768"/>
                  <a:pt x="2604" y="11832"/>
                </a:cubicBezTo>
                <a:cubicBezTo>
                  <a:pt x="2586" y="11849"/>
                  <a:pt x="2583" y="11854"/>
                  <a:pt x="2555" y="11881"/>
                </a:cubicBezTo>
                <a:cubicBezTo>
                  <a:pt x="2669" y="11875"/>
                  <a:pt x="2790" y="11874"/>
                  <a:pt x="2902" y="11857"/>
                </a:cubicBezTo>
                <a:cubicBezTo>
                  <a:pt x="3021" y="11839"/>
                  <a:pt x="3124" y="11857"/>
                  <a:pt x="3249" y="11857"/>
                </a:cubicBezTo>
                <a:cubicBezTo>
                  <a:pt x="3323" y="11857"/>
                  <a:pt x="3431" y="11817"/>
                  <a:pt x="3497" y="11832"/>
                </a:cubicBezTo>
                <a:cubicBezTo>
                  <a:pt x="3551" y="11844"/>
                  <a:pt x="3588" y="11857"/>
                  <a:pt x="3646" y="11857"/>
                </a:cubicBezTo>
                <a:cubicBezTo>
                  <a:pt x="3679" y="11857"/>
                  <a:pt x="3713" y="11857"/>
                  <a:pt x="3746" y="11857"/>
                </a:cubicBezTo>
              </a:path>
              <a:path w="6326" h="7839">
                <a:moveTo>
                  <a:pt x="4713" y="11063"/>
                </a:moveTo>
                <a:cubicBezTo>
                  <a:pt x="4713" y="11021"/>
                  <a:pt x="4713" y="10996"/>
                  <a:pt x="4713" y="11038"/>
                </a:cubicBezTo>
                <a:cubicBezTo>
                  <a:pt x="4713" y="11253"/>
                  <a:pt x="4732" y="11472"/>
                  <a:pt x="4688" y="11683"/>
                </a:cubicBezTo>
                <a:cubicBezTo>
                  <a:pt x="4669" y="11740"/>
                  <a:pt x="4660" y="11783"/>
                  <a:pt x="4663" y="11733"/>
                </a:cubicBezTo>
              </a:path>
              <a:path w="6326" h="7839">
                <a:moveTo>
                  <a:pt x="4713" y="11410"/>
                </a:moveTo>
                <a:cubicBezTo>
                  <a:pt x="4862" y="11380"/>
                  <a:pt x="4987" y="11386"/>
                  <a:pt x="5135" y="11410"/>
                </a:cubicBezTo>
                <a:cubicBezTo>
                  <a:pt x="5143" y="11410"/>
                  <a:pt x="5151" y="11410"/>
                  <a:pt x="5159" y="11410"/>
                </a:cubicBezTo>
              </a:path>
              <a:path w="6326" h="7839">
                <a:moveTo>
                  <a:pt x="6176" y="11112"/>
                </a:moveTo>
                <a:cubicBezTo>
                  <a:pt x="6159" y="11025"/>
                  <a:pt x="6091" y="11001"/>
                  <a:pt x="6003" y="10988"/>
                </a:cubicBezTo>
                <a:cubicBezTo>
                  <a:pt x="5840" y="10964"/>
                  <a:pt x="5780" y="11104"/>
                  <a:pt x="5730" y="11237"/>
                </a:cubicBezTo>
                <a:cubicBezTo>
                  <a:pt x="5664" y="11413"/>
                  <a:pt x="5623" y="11656"/>
                  <a:pt x="5829" y="11757"/>
                </a:cubicBezTo>
                <a:cubicBezTo>
                  <a:pt x="5983" y="11832"/>
                  <a:pt x="6134" y="11752"/>
                  <a:pt x="6201" y="11609"/>
                </a:cubicBezTo>
                <a:cubicBezTo>
                  <a:pt x="6253" y="11498"/>
                  <a:pt x="5900" y="11488"/>
                  <a:pt x="5854" y="11485"/>
                </a:cubicBezTo>
                <a:cubicBezTo>
                  <a:pt x="5747" y="11547"/>
                  <a:pt x="5968" y="11515"/>
                  <a:pt x="6028" y="11509"/>
                </a:cubicBezTo>
                <a:cubicBezTo>
                  <a:pt x="6151" y="11489"/>
                  <a:pt x="6176" y="11481"/>
                  <a:pt x="6251" y="11485"/>
                </a:cubicBezTo>
              </a:path>
              <a:path w="6326" h="7839">
                <a:moveTo>
                  <a:pt x="6821" y="11063"/>
                </a:moveTo>
                <a:cubicBezTo>
                  <a:pt x="6863" y="11209"/>
                  <a:pt x="6780" y="11386"/>
                  <a:pt x="6722" y="11534"/>
                </a:cubicBezTo>
                <a:cubicBezTo>
                  <a:pt x="6684" y="11627"/>
                  <a:pt x="6691" y="11645"/>
                  <a:pt x="6648" y="11683"/>
                </a:cubicBezTo>
                <a:cubicBezTo>
                  <a:pt x="6789" y="11713"/>
                  <a:pt x="6901" y="11695"/>
                  <a:pt x="7045" y="11683"/>
                </a:cubicBezTo>
              </a:path>
              <a:path w="6326" h="7839">
                <a:moveTo>
                  <a:pt x="6796" y="11435"/>
                </a:moveTo>
                <a:cubicBezTo>
                  <a:pt x="6903" y="11396"/>
                  <a:pt x="7051" y="11426"/>
                  <a:pt x="7144" y="11385"/>
                </a:cubicBezTo>
                <a:cubicBezTo>
                  <a:pt x="7144" y="11377"/>
                  <a:pt x="7144" y="11369"/>
                  <a:pt x="7144" y="11361"/>
                </a:cubicBezTo>
              </a:path>
              <a:path w="6326" h="7839">
                <a:moveTo>
                  <a:pt x="6921" y="11038"/>
                </a:moveTo>
                <a:cubicBezTo>
                  <a:pt x="7112" y="11027"/>
                  <a:pt x="7298" y="11013"/>
                  <a:pt x="7491" y="11013"/>
                </a:cubicBezTo>
                <a:cubicBezTo>
                  <a:pt x="7499" y="11013"/>
                  <a:pt x="7508" y="11013"/>
                  <a:pt x="7516" y="11013"/>
                </a:cubicBezTo>
              </a:path>
              <a:path w="6326" h="7839">
                <a:moveTo>
                  <a:pt x="3646" y="12626"/>
                </a:moveTo>
                <a:cubicBezTo>
                  <a:pt x="3542" y="12700"/>
                  <a:pt x="3385" y="12808"/>
                  <a:pt x="3249" y="12874"/>
                </a:cubicBezTo>
                <a:cubicBezTo>
                  <a:pt x="3054" y="12968"/>
                  <a:pt x="2859" y="13049"/>
                  <a:pt x="2679" y="13171"/>
                </a:cubicBezTo>
                <a:cubicBezTo>
                  <a:pt x="2594" y="13228"/>
                  <a:pt x="2505" y="13314"/>
                  <a:pt x="2431" y="13370"/>
                </a:cubicBezTo>
                <a:cubicBezTo>
                  <a:pt x="2495" y="13392"/>
                  <a:pt x="2552" y="13395"/>
                  <a:pt x="2629" y="13395"/>
                </a:cubicBezTo>
                <a:cubicBezTo>
                  <a:pt x="2735" y="13395"/>
                  <a:pt x="2870" y="13385"/>
                  <a:pt x="2977" y="13370"/>
                </a:cubicBezTo>
                <a:cubicBezTo>
                  <a:pt x="3119" y="13350"/>
                  <a:pt x="3253" y="13345"/>
                  <a:pt x="3398" y="13345"/>
                </a:cubicBezTo>
                <a:cubicBezTo>
                  <a:pt x="3529" y="13345"/>
                  <a:pt x="3701" y="13355"/>
                  <a:pt x="3795" y="13370"/>
                </a:cubicBezTo>
                <a:cubicBezTo>
                  <a:pt x="3812" y="13370"/>
                  <a:pt x="3828" y="13370"/>
                  <a:pt x="3845" y="13370"/>
                </a:cubicBezTo>
              </a:path>
              <a:path w="6326" h="7839">
                <a:moveTo>
                  <a:pt x="4514" y="12700"/>
                </a:moveTo>
                <a:cubicBezTo>
                  <a:pt x="4484" y="12864"/>
                  <a:pt x="4493" y="13030"/>
                  <a:pt x="4465" y="13196"/>
                </a:cubicBezTo>
                <a:cubicBezTo>
                  <a:pt x="4478" y="12996"/>
                  <a:pt x="4517" y="12800"/>
                  <a:pt x="4539" y="12601"/>
                </a:cubicBezTo>
                <a:cubicBezTo>
                  <a:pt x="4539" y="12559"/>
                  <a:pt x="4539" y="12551"/>
                  <a:pt x="4539" y="12526"/>
                </a:cubicBezTo>
                <a:cubicBezTo>
                  <a:pt x="4715" y="12526"/>
                  <a:pt x="4886" y="12518"/>
                  <a:pt x="5060" y="12551"/>
                </a:cubicBezTo>
                <a:cubicBezTo>
                  <a:pt x="5118" y="12570"/>
                  <a:pt x="5124" y="12579"/>
                  <a:pt x="5159" y="12576"/>
                </a:cubicBezTo>
              </a:path>
              <a:path w="6326" h="7839">
                <a:moveTo>
                  <a:pt x="4514" y="12874"/>
                </a:moveTo>
                <a:cubicBezTo>
                  <a:pt x="4672" y="12867"/>
                  <a:pt x="4827" y="12849"/>
                  <a:pt x="4986" y="12849"/>
                </a:cubicBezTo>
                <a:cubicBezTo>
                  <a:pt x="5002" y="12849"/>
                  <a:pt x="5019" y="12849"/>
                  <a:pt x="5035" y="12849"/>
                </a:cubicBezTo>
              </a:path>
              <a:path w="6326" h="7839">
                <a:moveTo>
                  <a:pt x="6176" y="12750"/>
                </a:moveTo>
                <a:cubicBezTo>
                  <a:pt x="6217" y="12688"/>
                  <a:pt x="6128" y="12605"/>
                  <a:pt x="6028" y="12626"/>
                </a:cubicBezTo>
                <a:cubicBezTo>
                  <a:pt x="5831" y="12668"/>
                  <a:pt x="5595" y="12917"/>
                  <a:pt x="5581" y="13122"/>
                </a:cubicBezTo>
                <a:cubicBezTo>
                  <a:pt x="5562" y="13415"/>
                  <a:pt x="5920" y="13408"/>
                  <a:pt x="6077" y="13271"/>
                </a:cubicBezTo>
                <a:cubicBezTo>
                  <a:pt x="6102" y="13229"/>
                  <a:pt x="6127" y="13188"/>
                  <a:pt x="6152" y="13146"/>
                </a:cubicBezTo>
                <a:cubicBezTo>
                  <a:pt x="6030" y="12933"/>
                  <a:pt x="5921" y="13007"/>
                  <a:pt x="5705" y="13097"/>
                </a:cubicBezTo>
                <a:cubicBezTo>
                  <a:pt x="5666" y="13174"/>
                  <a:pt x="5689" y="13190"/>
                  <a:pt x="5829" y="13146"/>
                </a:cubicBezTo>
              </a:path>
              <a:path w="6326" h="7839">
                <a:moveTo>
                  <a:pt x="6672" y="12725"/>
                </a:moveTo>
                <a:cubicBezTo>
                  <a:pt x="6654" y="12877"/>
                  <a:pt x="6601" y="13020"/>
                  <a:pt x="6573" y="13171"/>
                </a:cubicBezTo>
                <a:cubicBezTo>
                  <a:pt x="6558" y="13249"/>
                  <a:pt x="6603" y="13196"/>
                  <a:pt x="6623" y="13171"/>
                </a:cubicBezTo>
              </a:path>
              <a:path w="6326" h="7839">
                <a:moveTo>
                  <a:pt x="6623" y="12898"/>
                </a:moveTo>
                <a:cubicBezTo>
                  <a:pt x="6799" y="12898"/>
                  <a:pt x="6969" y="12883"/>
                  <a:pt x="7144" y="12874"/>
                </a:cubicBezTo>
                <a:cubicBezTo>
                  <a:pt x="7152" y="12874"/>
                  <a:pt x="7161" y="12874"/>
                  <a:pt x="7169" y="12874"/>
                </a:cubicBezTo>
              </a:path>
              <a:path w="6326" h="7839">
                <a:moveTo>
                  <a:pt x="2753" y="14089"/>
                </a:moveTo>
                <a:cubicBezTo>
                  <a:pt x="2738" y="14116"/>
                  <a:pt x="2454" y="14437"/>
                  <a:pt x="2406" y="14486"/>
                </a:cubicBezTo>
                <a:cubicBezTo>
                  <a:pt x="2250" y="14644"/>
                  <a:pt x="2092" y="14800"/>
                  <a:pt x="1935" y="14957"/>
                </a:cubicBezTo>
                <a:cubicBezTo>
                  <a:pt x="2283" y="14957"/>
                  <a:pt x="2715" y="14915"/>
                  <a:pt x="3051" y="14982"/>
                </a:cubicBezTo>
                <a:cubicBezTo>
                  <a:pt x="3076" y="14982"/>
                  <a:pt x="3084" y="14982"/>
                  <a:pt x="3101" y="14982"/>
                </a:cubicBezTo>
              </a:path>
              <a:path w="6326" h="7839">
                <a:moveTo>
                  <a:pt x="3349" y="14114"/>
                </a:moveTo>
                <a:cubicBezTo>
                  <a:pt x="3349" y="13965"/>
                  <a:pt x="3349" y="14362"/>
                  <a:pt x="3349" y="14511"/>
                </a:cubicBezTo>
                <a:cubicBezTo>
                  <a:pt x="3349" y="14618"/>
                  <a:pt x="3349" y="14677"/>
                  <a:pt x="3349" y="14784"/>
                </a:cubicBezTo>
              </a:path>
              <a:path w="6326" h="7839">
                <a:moveTo>
                  <a:pt x="3746" y="14015"/>
                </a:moveTo>
                <a:cubicBezTo>
                  <a:pt x="3793" y="14240"/>
                  <a:pt x="3907" y="14584"/>
                  <a:pt x="3795" y="14808"/>
                </a:cubicBezTo>
                <a:cubicBezTo>
                  <a:pt x="3795" y="14783"/>
                  <a:pt x="3795" y="14759"/>
                  <a:pt x="3795" y="14734"/>
                </a:cubicBezTo>
              </a:path>
              <a:path w="6326" h="7839">
                <a:moveTo>
                  <a:pt x="3349" y="14511"/>
                </a:moveTo>
                <a:cubicBezTo>
                  <a:pt x="3532" y="14457"/>
                  <a:pt x="3631" y="14436"/>
                  <a:pt x="3820" y="14436"/>
                </a:cubicBezTo>
              </a:path>
              <a:path w="6326" h="7839">
                <a:moveTo>
                  <a:pt x="4564" y="14163"/>
                </a:moveTo>
                <a:cubicBezTo>
                  <a:pt x="4564" y="14102"/>
                  <a:pt x="4533" y="14077"/>
                  <a:pt x="4465" y="14089"/>
                </a:cubicBezTo>
                <a:cubicBezTo>
                  <a:pt x="4261" y="14125"/>
                  <a:pt x="4118" y="14334"/>
                  <a:pt x="4118" y="14536"/>
                </a:cubicBezTo>
                <a:cubicBezTo>
                  <a:pt x="4118" y="14830"/>
                  <a:pt x="4354" y="14962"/>
                  <a:pt x="4589" y="14784"/>
                </a:cubicBezTo>
                <a:cubicBezTo>
                  <a:pt x="4757" y="14657"/>
                  <a:pt x="4746" y="14426"/>
                  <a:pt x="4490" y="14486"/>
                </a:cubicBezTo>
                <a:cubicBezTo>
                  <a:pt x="4473" y="14490"/>
                  <a:pt x="4091" y="14616"/>
                  <a:pt x="4366" y="14585"/>
                </a:cubicBezTo>
              </a:path>
              <a:path w="6326" h="7839">
                <a:moveTo>
                  <a:pt x="5085" y="14064"/>
                </a:moveTo>
                <a:cubicBezTo>
                  <a:pt x="5075" y="14271"/>
                  <a:pt x="5060" y="14476"/>
                  <a:pt x="5060" y="14684"/>
                </a:cubicBezTo>
                <a:cubicBezTo>
                  <a:pt x="5060" y="14668"/>
                  <a:pt x="5060" y="14651"/>
                  <a:pt x="5060" y="14635"/>
                </a:cubicBezTo>
                <a:cubicBezTo>
                  <a:pt x="5060" y="14417"/>
                  <a:pt x="5052" y="14206"/>
                  <a:pt x="5035" y="13990"/>
                </a:cubicBezTo>
                <a:cubicBezTo>
                  <a:pt x="5178" y="13990"/>
                  <a:pt x="5314" y="14012"/>
                  <a:pt x="5457" y="14015"/>
                </a:cubicBezTo>
                <a:cubicBezTo>
                  <a:pt x="5570" y="14018"/>
                  <a:pt x="5567" y="13983"/>
                  <a:pt x="5581" y="14064"/>
                </a:cubicBezTo>
              </a:path>
              <a:path w="6326" h="7839">
                <a:moveTo>
                  <a:pt x="5110" y="14312"/>
                </a:moveTo>
                <a:cubicBezTo>
                  <a:pt x="5197" y="14304"/>
                  <a:pt x="5321" y="14256"/>
                  <a:pt x="5407" y="14288"/>
                </a:cubicBezTo>
                <a:cubicBezTo>
                  <a:pt x="5415" y="14296"/>
                  <a:pt x="5424" y="14304"/>
                  <a:pt x="5432" y="14312"/>
                </a:cubicBezTo>
              </a:path>
              <a:path w="6326" h="7839">
                <a:moveTo>
                  <a:pt x="2828" y="15850"/>
                </a:moveTo>
                <a:cubicBezTo>
                  <a:pt x="2835" y="15887"/>
                  <a:pt x="2806" y="15952"/>
                  <a:pt x="2729" y="16024"/>
                </a:cubicBezTo>
                <a:cubicBezTo>
                  <a:pt x="2566" y="16176"/>
                  <a:pt x="2388" y="16314"/>
                  <a:pt x="2208" y="16446"/>
                </a:cubicBezTo>
                <a:cubicBezTo>
                  <a:pt x="2078" y="16541"/>
                  <a:pt x="1952" y="16656"/>
                  <a:pt x="1836" y="16768"/>
                </a:cubicBezTo>
                <a:cubicBezTo>
                  <a:pt x="1797" y="16807"/>
                  <a:pt x="1780" y="16808"/>
                  <a:pt x="1786" y="16842"/>
                </a:cubicBezTo>
                <a:cubicBezTo>
                  <a:pt x="1847" y="16826"/>
                  <a:pt x="1920" y="16800"/>
                  <a:pt x="1984" y="16793"/>
                </a:cubicBezTo>
                <a:cubicBezTo>
                  <a:pt x="2083" y="16782"/>
                  <a:pt x="2185" y="16779"/>
                  <a:pt x="2282" y="16768"/>
                </a:cubicBezTo>
                <a:cubicBezTo>
                  <a:pt x="2396" y="16755"/>
                  <a:pt x="2527" y="16758"/>
                  <a:pt x="2629" y="16743"/>
                </a:cubicBezTo>
                <a:cubicBezTo>
                  <a:pt x="2717" y="16730"/>
                  <a:pt x="2771" y="16757"/>
                  <a:pt x="2853" y="16768"/>
                </a:cubicBezTo>
                <a:cubicBezTo>
                  <a:pt x="2905" y="16775"/>
                  <a:pt x="2932" y="16786"/>
                  <a:pt x="2977" y="16793"/>
                </a:cubicBezTo>
                <a:cubicBezTo>
                  <a:pt x="3008" y="16798"/>
                  <a:pt x="3044" y="16793"/>
                  <a:pt x="3076" y="16793"/>
                </a:cubicBezTo>
              </a:path>
              <a:path w="6326" h="7839">
                <a:moveTo>
                  <a:pt x="4043" y="16073"/>
                </a:moveTo>
                <a:cubicBezTo>
                  <a:pt x="4022" y="15993"/>
                  <a:pt x="3958" y="15943"/>
                  <a:pt x="3870" y="15949"/>
                </a:cubicBezTo>
                <a:cubicBezTo>
                  <a:pt x="3752" y="15956"/>
                  <a:pt x="3616" y="16026"/>
                  <a:pt x="3547" y="16123"/>
                </a:cubicBezTo>
                <a:cubicBezTo>
                  <a:pt x="3454" y="16253"/>
                  <a:pt x="3454" y="16466"/>
                  <a:pt x="3473" y="16619"/>
                </a:cubicBezTo>
                <a:cubicBezTo>
                  <a:pt x="3488" y="16738"/>
                  <a:pt x="3530" y="16846"/>
                  <a:pt x="3671" y="16842"/>
                </a:cubicBezTo>
                <a:cubicBezTo>
                  <a:pt x="3789" y="16839"/>
                  <a:pt x="3928" y="16792"/>
                  <a:pt x="4018" y="16718"/>
                </a:cubicBezTo>
                <a:cubicBezTo>
                  <a:pt x="4068" y="16677"/>
                  <a:pt x="4068" y="16657"/>
                  <a:pt x="4068" y="16594"/>
                </a:cubicBezTo>
                <a:cubicBezTo>
                  <a:pt x="4068" y="16558"/>
                  <a:pt x="4095" y="16545"/>
                  <a:pt x="4068" y="16520"/>
                </a:cubicBezTo>
                <a:cubicBezTo>
                  <a:pt x="3978" y="16435"/>
                  <a:pt x="3835" y="16470"/>
                  <a:pt x="3721" y="16470"/>
                </a:cubicBezTo>
                <a:cubicBezTo>
                  <a:pt x="3666" y="16552"/>
                  <a:pt x="3971" y="16451"/>
                  <a:pt x="4018" y="16446"/>
                </a:cubicBezTo>
                <a:cubicBezTo>
                  <a:pt x="4049" y="16442"/>
                  <a:pt x="4086" y="16446"/>
                  <a:pt x="4118" y="164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35040" y="3286080"/>
            <a:ext cx="1009800" cy="1812960"/>
          </a:xfrm>
          <a:custGeom>
            <a:avLst/>
            <a:gdLst/>
            <a:ahLst/>
            <a:rect l="l" t="t" r="r" b="b"/>
            <a:pathLst>
              <a:path w="2804" h="5036">
                <a:moveTo>
                  <a:pt x="4390" y="9128"/>
                </a:moveTo>
                <a:cubicBezTo>
                  <a:pt x="4382" y="9136"/>
                  <a:pt x="4374" y="9145"/>
                  <a:pt x="4366" y="9153"/>
                </a:cubicBezTo>
              </a:path>
              <a:path w="2804" h="5036">
                <a:moveTo>
                  <a:pt x="4266" y="9203"/>
                </a:moveTo>
                <a:cubicBezTo>
                  <a:pt x="4266" y="9156"/>
                  <a:pt x="4284" y="9136"/>
                  <a:pt x="4341" y="9128"/>
                </a:cubicBezTo>
              </a:path>
              <a:path w="2804" h="5036">
                <a:moveTo>
                  <a:pt x="6995" y="14163"/>
                </a:moveTo>
                <a:lnTo>
                  <a:pt x="6995" y="14163"/>
                </a:lnTo>
              </a:path>
              <a:path w="2804" h="5036">
                <a:moveTo>
                  <a:pt x="6995" y="14163"/>
                </a:moveTo>
                <a:lnTo>
                  <a:pt x="6995" y="14163"/>
                </a:lnTo>
              </a:path>
              <a:path w="2804" h="5036">
                <a:moveTo>
                  <a:pt x="5110" y="11038"/>
                </a:moveTo>
                <a:cubicBezTo>
                  <a:pt x="5151" y="11264"/>
                  <a:pt x="5198" y="11506"/>
                  <a:pt x="5135" y="11733"/>
                </a:cubicBezTo>
                <a:cubicBezTo>
                  <a:pt x="5105" y="11762"/>
                  <a:pt x="5094" y="11764"/>
                  <a:pt x="5085" y="11708"/>
                </a:cubicBezTo>
              </a:path>
              <a:path w="2804" h="5036">
                <a:moveTo>
                  <a:pt x="7045" y="12576"/>
                </a:moveTo>
                <a:cubicBezTo>
                  <a:pt x="7063" y="12785"/>
                  <a:pt x="7030" y="12964"/>
                  <a:pt x="6995" y="13171"/>
                </a:cubicBezTo>
                <a:cubicBezTo>
                  <a:pt x="6995" y="13179"/>
                  <a:pt x="6995" y="13188"/>
                  <a:pt x="6995" y="131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  <p:sndAc>
      <p:stSnd>
        <p:snd r:embed="rId2" name="cashreg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howcard Gothic"/>
              </a:rPr>
              <a:t>Complementary Angles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lementary Angl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Angles that have a sum of 90 degre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2043360" cy="249552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4952880" y="3581280"/>
            <a:ext cx="2362320" cy="2346480"/>
            <a:chOff x="4952880" y="3581280"/>
            <a:chExt cx="2362320" cy="2346480"/>
          </a:xfrm>
        </p:grpSpPr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4952880" y="3581280"/>
              <a:ext cx="236232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5181480" y="48769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867280" y="5334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24320" y="4830840"/>
            <a:ext cx="1401840" cy="928440"/>
          </a:xfrm>
          <a:custGeom>
            <a:avLst/>
            <a:gdLst/>
            <a:ahLst/>
            <a:rect l="l" t="t" r="r" b="b"/>
            <a:pathLst>
              <a:path w="3895" h="2581">
                <a:moveTo>
                  <a:pt x="14560" y="14362"/>
                </a:moveTo>
                <a:cubicBezTo>
                  <a:pt x="14614" y="14400"/>
                  <a:pt x="14653" y="14435"/>
                  <a:pt x="14709" y="14486"/>
                </a:cubicBezTo>
                <a:cubicBezTo>
                  <a:pt x="14838" y="14604"/>
                  <a:pt x="15009" y="14606"/>
                  <a:pt x="15180" y="14635"/>
                </a:cubicBezTo>
                <a:cubicBezTo>
                  <a:pt x="15359" y="14666"/>
                  <a:pt x="15551" y="14676"/>
                  <a:pt x="15726" y="14610"/>
                </a:cubicBezTo>
                <a:cubicBezTo>
                  <a:pt x="15912" y="14539"/>
                  <a:pt x="16052" y="14423"/>
                  <a:pt x="16123" y="14238"/>
                </a:cubicBezTo>
                <a:cubicBezTo>
                  <a:pt x="16194" y="14055"/>
                  <a:pt x="16050" y="13821"/>
                  <a:pt x="15925" y="13692"/>
                </a:cubicBezTo>
                <a:cubicBezTo>
                  <a:pt x="15796" y="13560"/>
                  <a:pt x="15556" y="13488"/>
                  <a:pt x="15379" y="13444"/>
                </a:cubicBezTo>
                <a:cubicBezTo>
                  <a:pt x="15202" y="13400"/>
                  <a:pt x="14997" y="13441"/>
                  <a:pt x="14833" y="13519"/>
                </a:cubicBezTo>
                <a:cubicBezTo>
                  <a:pt x="14645" y="13609"/>
                  <a:pt x="14578" y="13771"/>
                  <a:pt x="14536" y="13965"/>
                </a:cubicBezTo>
                <a:cubicBezTo>
                  <a:pt x="14506" y="14107"/>
                  <a:pt x="14473" y="14344"/>
                  <a:pt x="14635" y="14436"/>
                </a:cubicBezTo>
                <a:cubicBezTo>
                  <a:pt x="14719" y="14484"/>
                  <a:pt x="14859" y="14501"/>
                  <a:pt x="14957" y="14511"/>
                </a:cubicBezTo>
              </a:path>
              <a:path w="3895" h="2581">
                <a:moveTo>
                  <a:pt x="16222" y="14610"/>
                </a:moveTo>
                <a:cubicBezTo>
                  <a:pt x="16242" y="14610"/>
                  <a:pt x="16222" y="14780"/>
                  <a:pt x="16222" y="14858"/>
                </a:cubicBezTo>
                <a:cubicBezTo>
                  <a:pt x="16222" y="14916"/>
                  <a:pt x="16222" y="14924"/>
                  <a:pt x="16222" y="14957"/>
                </a:cubicBezTo>
              </a:path>
              <a:path w="3895" h="2581">
                <a:moveTo>
                  <a:pt x="16049" y="14808"/>
                </a:moveTo>
                <a:cubicBezTo>
                  <a:pt x="16171" y="14808"/>
                  <a:pt x="16418" y="14775"/>
                  <a:pt x="16495" y="14833"/>
                </a:cubicBezTo>
              </a:path>
              <a:path w="3895" h="2581">
                <a:moveTo>
                  <a:pt x="16446" y="15751"/>
                </a:moveTo>
                <a:cubicBezTo>
                  <a:pt x="16641" y="15852"/>
                  <a:pt x="16815" y="15939"/>
                  <a:pt x="17041" y="15974"/>
                </a:cubicBezTo>
                <a:cubicBezTo>
                  <a:pt x="17350" y="16022"/>
                  <a:pt x="17828" y="16057"/>
                  <a:pt x="18107" y="15875"/>
                </a:cubicBezTo>
                <a:cubicBezTo>
                  <a:pt x="18387" y="15692"/>
                  <a:pt x="18505" y="15390"/>
                  <a:pt x="18306" y="15106"/>
                </a:cubicBezTo>
                <a:cubicBezTo>
                  <a:pt x="18103" y="14817"/>
                  <a:pt x="17721" y="14709"/>
                  <a:pt x="17388" y="14684"/>
                </a:cubicBezTo>
                <a:cubicBezTo>
                  <a:pt x="17069" y="14660"/>
                  <a:pt x="16733" y="14817"/>
                  <a:pt x="16520" y="15056"/>
                </a:cubicBezTo>
                <a:cubicBezTo>
                  <a:pt x="16280" y="15325"/>
                  <a:pt x="16316" y="15608"/>
                  <a:pt x="16594" y="15825"/>
                </a:cubicBezTo>
                <a:cubicBezTo>
                  <a:pt x="16797" y="15983"/>
                  <a:pt x="16934" y="15967"/>
                  <a:pt x="17165" y="159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03960" y="4295880"/>
            <a:ext cx="393840" cy="330120"/>
          </a:xfrm>
          <a:custGeom>
            <a:avLst/>
            <a:gdLst/>
            <a:ahLst/>
            <a:rect l="l" t="t" r="r" b="b"/>
            <a:pathLst>
              <a:path w="1093" h="919">
                <a:moveTo>
                  <a:pt x="17835" y="12254"/>
                </a:moveTo>
                <a:cubicBezTo>
                  <a:pt x="17932" y="12326"/>
                  <a:pt x="17896" y="12089"/>
                  <a:pt x="17884" y="12055"/>
                </a:cubicBezTo>
                <a:cubicBezTo>
                  <a:pt x="17814" y="11962"/>
                  <a:pt x="17797" y="11930"/>
                  <a:pt x="17711" y="11931"/>
                </a:cubicBezTo>
                <a:cubicBezTo>
                  <a:pt x="17616" y="12020"/>
                  <a:pt x="17334" y="12412"/>
                  <a:pt x="17711" y="12378"/>
                </a:cubicBezTo>
                <a:cubicBezTo>
                  <a:pt x="17851" y="12365"/>
                  <a:pt x="17952" y="12166"/>
                  <a:pt x="17983" y="12055"/>
                </a:cubicBezTo>
                <a:cubicBezTo>
                  <a:pt x="17960" y="12293"/>
                  <a:pt x="17897" y="12519"/>
                  <a:pt x="17835" y="12750"/>
                </a:cubicBezTo>
                <a:cubicBezTo>
                  <a:pt x="17827" y="12783"/>
                  <a:pt x="17818" y="12816"/>
                  <a:pt x="17810" y="12849"/>
                </a:cubicBezTo>
              </a:path>
              <a:path w="1093" h="919">
                <a:moveTo>
                  <a:pt x="18430" y="12055"/>
                </a:moveTo>
                <a:cubicBezTo>
                  <a:pt x="18315" y="12084"/>
                  <a:pt x="18213" y="12307"/>
                  <a:pt x="18182" y="12402"/>
                </a:cubicBezTo>
                <a:cubicBezTo>
                  <a:pt x="18160" y="12553"/>
                  <a:pt x="18135" y="12594"/>
                  <a:pt x="18231" y="12650"/>
                </a:cubicBezTo>
                <a:cubicBezTo>
                  <a:pt x="18443" y="12556"/>
                  <a:pt x="18724" y="12421"/>
                  <a:pt x="18554" y="12129"/>
                </a:cubicBezTo>
                <a:cubicBezTo>
                  <a:pt x="18483" y="12083"/>
                  <a:pt x="18464" y="12067"/>
                  <a:pt x="18405" y="120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73920" y="3133800"/>
            <a:ext cx="1908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19372" y="8731"/>
                </a:moveTo>
                <a:cubicBezTo>
                  <a:pt x="19372" y="8698"/>
                  <a:pt x="19380" y="8689"/>
                  <a:pt x="19422" y="87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56200" y="2295360"/>
            <a:ext cx="420840" cy="660600"/>
          </a:xfrm>
          <a:custGeom>
            <a:avLst/>
            <a:gdLst/>
            <a:ahLst/>
            <a:rect l="l" t="t" r="r" b="b"/>
            <a:pathLst>
              <a:path w="1167" h="1836">
                <a:moveTo>
                  <a:pt x="16867" y="6648"/>
                </a:moveTo>
                <a:cubicBezTo>
                  <a:pt x="16745" y="6648"/>
                  <a:pt x="16656" y="6679"/>
                  <a:pt x="16545" y="6722"/>
                </a:cubicBezTo>
                <a:cubicBezTo>
                  <a:pt x="16590" y="6838"/>
                  <a:pt x="16898" y="6969"/>
                  <a:pt x="16892" y="7069"/>
                </a:cubicBezTo>
                <a:cubicBezTo>
                  <a:pt x="16881" y="7261"/>
                  <a:pt x="16655" y="7167"/>
                  <a:pt x="16570" y="7144"/>
                </a:cubicBezTo>
                <a:cubicBezTo>
                  <a:pt x="16637" y="7016"/>
                  <a:pt x="16888" y="6849"/>
                  <a:pt x="16917" y="6722"/>
                </a:cubicBezTo>
                <a:cubicBezTo>
                  <a:pt x="16894" y="6699"/>
                  <a:pt x="16883" y="6691"/>
                  <a:pt x="16917" y="6697"/>
                </a:cubicBezTo>
              </a:path>
              <a:path w="1167" h="1836">
                <a:moveTo>
                  <a:pt x="17462" y="6648"/>
                </a:moveTo>
                <a:cubicBezTo>
                  <a:pt x="17324" y="6624"/>
                  <a:pt x="17247" y="6646"/>
                  <a:pt x="17115" y="6697"/>
                </a:cubicBezTo>
                <a:cubicBezTo>
                  <a:pt x="17132" y="6780"/>
                  <a:pt x="17323" y="6993"/>
                  <a:pt x="17289" y="7069"/>
                </a:cubicBezTo>
                <a:cubicBezTo>
                  <a:pt x="17196" y="7139"/>
                  <a:pt x="17171" y="7164"/>
                  <a:pt x="17090" y="7144"/>
                </a:cubicBezTo>
                <a:cubicBezTo>
                  <a:pt x="17117" y="6957"/>
                  <a:pt x="17213" y="6854"/>
                  <a:pt x="17314" y="6697"/>
                </a:cubicBezTo>
                <a:cubicBezTo>
                  <a:pt x="17334" y="6657"/>
                  <a:pt x="17352" y="6641"/>
                  <a:pt x="17314" y="6648"/>
                </a:cubicBezTo>
              </a:path>
              <a:path w="1167" h="1836">
                <a:moveTo>
                  <a:pt x="17661" y="6400"/>
                </a:moveTo>
                <a:cubicBezTo>
                  <a:pt x="17606" y="6411"/>
                  <a:pt x="17573" y="6483"/>
                  <a:pt x="17562" y="6573"/>
                </a:cubicBezTo>
                <a:cubicBezTo>
                  <a:pt x="17675" y="6526"/>
                  <a:pt x="17795" y="6461"/>
                  <a:pt x="17587" y="6424"/>
                </a:cubicBezTo>
                <a:cubicBezTo>
                  <a:pt x="17562" y="6424"/>
                  <a:pt x="17537" y="6424"/>
                  <a:pt x="17512" y="6424"/>
                </a:cubicBezTo>
              </a:path>
              <a:path w="1167" h="1836">
                <a:moveTo>
                  <a:pt x="17165" y="7714"/>
                </a:moveTo>
                <a:cubicBezTo>
                  <a:pt x="17215" y="7674"/>
                  <a:pt x="17252" y="7663"/>
                  <a:pt x="17314" y="7640"/>
                </a:cubicBezTo>
                <a:cubicBezTo>
                  <a:pt x="17357" y="7839"/>
                  <a:pt x="17213" y="7974"/>
                  <a:pt x="17066" y="8111"/>
                </a:cubicBezTo>
                <a:cubicBezTo>
                  <a:pt x="16990" y="8168"/>
                  <a:pt x="16978" y="8171"/>
                  <a:pt x="16942" y="8210"/>
                </a:cubicBezTo>
                <a:cubicBezTo>
                  <a:pt x="17061" y="8170"/>
                  <a:pt x="17126" y="8088"/>
                  <a:pt x="17264" y="8136"/>
                </a:cubicBezTo>
                <a:cubicBezTo>
                  <a:pt x="17435" y="8196"/>
                  <a:pt x="17341" y="8257"/>
                  <a:pt x="17512" y="8062"/>
                </a:cubicBezTo>
              </a:path>
              <a:path w="1167" h="1836">
                <a:moveTo>
                  <a:pt x="17636" y="7491"/>
                </a:moveTo>
                <a:cubicBezTo>
                  <a:pt x="17534" y="7511"/>
                  <a:pt x="17527" y="7554"/>
                  <a:pt x="17537" y="7640"/>
                </a:cubicBezTo>
                <a:cubicBezTo>
                  <a:pt x="17605" y="7627"/>
                  <a:pt x="17745" y="7584"/>
                  <a:pt x="17636" y="75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35800" y="2286000"/>
            <a:ext cx="573120" cy="679320"/>
          </a:xfrm>
          <a:custGeom>
            <a:avLst/>
            <a:gdLst/>
            <a:ahLst/>
            <a:rect l="l" t="t" r="r" b="b"/>
            <a:pathLst>
              <a:path w="1589" h="1886">
                <a:moveTo>
                  <a:pt x="18628" y="6548"/>
                </a:moveTo>
                <a:cubicBezTo>
                  <a:pt x="18458" y="6526"/>
                  <a:pt x="18314" y="6554"/>
                  <a:pt x="18157" y="6623"/>
                </a:cubicBezTo>
                <a:cubicBezTo>
                  <a:pt x="18357" y="6770"/>
                  <a:pt x="18592" y="6848"/>
                  <a:pt x="18752" y="7020"/>
                </a:cubicBezTo>
                <a:cubicBezTo>
                  <a:pt x="18643" y="7071"/>
                  <a:pt x="18241" y="7195"/>
                  <a:pt x="18405" y="6921"/>
                </a:cubicBezTo>
                <a:cubicBezTo>
                  <a:pt x="18494" y="6772"/>
                  <a:pt x="18801" y="6433"/>
                  <a:pt x="18653" y="6524"/>
                </a:cubicBezTo>
                <a:cubicBezTo>
                  <a:pt x="18653" y="6532"/>
                  <a:pt x="18653" y="6540"/>
                  <a:pt x="18653" y="6548"/>
                </a:cubicBezTo>
              </a:path>
              <a:path w="1589" h="1886">
                <a:moveTo>
                  <a:pt x="19149" y="6499"/>
                </a:moveTo>
                <a:cubicBezTo>
                  <a:pt x="19028" y="6401"/>
                  <a:pt x="18923" y="6504"/>
                  <a:pt x="18852" y="6623"/>
                </a:cubicBezTo>
                <a:cubicBezTo>
                  <a:pt x="18844" y="6656"/>
                  <a:pt x="18835" y="6689"/>
                  <a:pt x="18827" y="6722"/>
                </a:cubicBezTo>
                <a:cubicBezTo>
                  <a:pt x="19039" y="6799"/>
                  <a:pt x="19031" y="6721"/>
                  <a:pt x="19124" y="6548"/>
                </a:cubicBezTo>
                <a:cubicBezTo>
                  <a:pt x="19124" y="6556"/>
                  <a:pt x="19124" y="6565"/>
                  <a:pt x="19124" y="6573"/>
                </a:cubicBezTo>
                <a:cubicBezTo>
                  <a:pt x="19124" y="6738"/>
                  <a:pt x="19138" y="6908"/>
                  <a:pt x="19100" y="7069"/>
                </a:cubicBezTo>
                <a:cubicBezTo>
                  <a:pt x="19100" y="7061"/>
                  <a:pt x="19100" y="7053"/>
                  <a:pt x="19100" y="7045"/>
                </a:cubicBezTo>
              </a:path>
              <a:path w="1589" h="1886">
                <a:moveTo>
                  <a:pt x="19372" y="6350"/>
                </a:moveTo>
                <a:cubicBezTo>
                  <a:pt x="19340" y="6431"/>
                  <a:pt x="19332" y="6468"/>
                  <a:pt x="19348" y="6548"/>
                </a:cubicBezTo>
                <a:cubicBezTo>
                  <a:pt x="19404" y="6536"/>
                  <a:pt x="19579" y="6463"/>
                  <a:pt x="19472" y="6375"/>
                </a:cubicBezTo>
                <a:cubicBezTo>
                  <a:pt x="19400" y="6351"/>
                  <a:pt x="19377" y="6340"/>
                  <a:pt x="19348" y="6400"/>
                </a:cubicBezTo>
              </a:path>
              <a:path w="1589" h="1886">
                <a:moveTo>
                  <a:pt x="19149" y="7863"/>
                </a:moveTo>
                <a:cubicBezTo>
                  <a:pt x="19149" y="7802"/>
                  <a:pt x="19161" y="7778"/>
                  <a:pt x="19174" y="7714"/>
                </a:cubicBezTo>
                <a:cubicBezTo>
                  <a:pt x="19175" y="7707"/>
                  <a:pt x="19174" y="7624"/>
                  <a:pt x="19174" y="7689"/>
                </a:cubicBezTo>
                <a:cubicBezTo>
                  <a:pt x="19174" y="7867"/>
                  <a:pt x="19177" y="8036"/>
                  <a:pt x="19199" y="8210"/>
                </a:cubicBezTo>
                <a:cubicBezTo>
                  <a:pt x="19199" y="8218"/>
                  <a:pt x="19199" y="8227"/>
                  <a:pt x="19199" y="8235"/>
                </a:cubicBezTo>
              </a:path>
              <a:path w="1589" h="1886">
                <a:moveTo>
                  <a:pt x="19621" y="7317"/>
                </a:moveTo>
                <a:cubicBezTo>
                  <a:pt x="19571" y="7367"/>
                  <a:pt x="19554" y="7384"/>
                  <a:pt x="19521" y="7417"/>
                </a:cubicBezTo>
                <a:cubicBezTo>
                  <a:pt x="19592" y="7498"/>
                  <a:pt x="19708" y="7514"/>
                  <a:pt x="19745" y="7367"/>
                </a:cubicBezTo>
                <a:cubicBezTo>
                  <a:pt x="19711" y="7333"/>
                  <a:pt x="19689" y="7324"/>
                  <a:pt x="19645" y="73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10320" y="2241720"/>
            <a:ext cx="509760" cy="714240"/>
          </a:xfrm>
          <a:custGeom>
            <a:avLst/>
            <a:gdLst/>
            <a:ahLst/>
            <a:rect l="l" t="t" r="r" b="b"/>
            <a:pathLst>
              <a:path w="1415" h="1985">
                <a:moveTo>
                  <a:pt x="21010" y="6524"/>
                </a:moveTo>
                <a:cubicBezTo>
                  <a:pt x="20986" y="6667"/>
                  <a:pt x="20918" y="6800"/>
                  <a:pt x="20886" y="6945"/>
                </a:cubicBezTo>
                <a:cubicBezTo>
                  <a:pt x="20863" y="7061"/>
                  <a:pt x="20852" y="7095"/>
                  <a:pt x="20886" y="7169"/>
                </a:cubicBezTo>
                <a:cubicBezTo>
                  <a:pt x="21058" y="7190"/>
                  <a:pt x="21156" y="7198"/>
                  <a:pt x="21307" y="7094"/>
                </a:cubicBezTo>
                <a:cubicBezTo>
                  <a:pt x="21376" y="7026"/>
                  <a:pt x="21398" y="7010"/>
                  <a:pt x="21406" y="6945"/>
                </a:cubicBezTo>
                <a:cubicBezTo>
                  <a:pt x="21343" y="6865"/>
                  <a:pt x="21290" y="6838"/>
                  <a:pt x="21183" y="6896"/>
                </a:cubicBezTo>
                <a:cubicBezTo>
                  <a:pt x="21150" y="6914"/>
                  <a:pt x="20940" y="7209"/>
                  <a:pt x="21034" y="7193"/>
                </a:cubicBezTo>
                <a:cubicBezTo>
                  <a:pt x="21059" y="7177"/>
                  <a:pt x="21084" y="7160"/>
                  <a:pt x="21109" y="7144"/>
                </a:cubicBezTo>
              </a:path>
              <a:path w="1415" h="1985">
                <a:moveTo>
                  <a:pt x="21630" y="6548"/>
                </a:moveTo>
                <a:cubicBezTo>
                  <a:pt x="21540" y="6713"/>
                  <a:pt x="21477" y="6825"/>
                  <a:pt x="21530" y="7020"/>
                </a:cubicBezTo>
                <a:cubicBezTo>
                  <a:pt x="21575" y="7109"/>
                  <a:pt x="21581" y="7139"/>
                  <a:pt x="21654" y="7144"/>
                </a:cubicBezTo>
                <a:cubicBezTo>
                  <a:pt x="21804" y="7038"/>
                  <a:pt x="22008" y="6867"/>
                  <a:pt x="21878" y="6648"/>
                </a:cubicBezTo>
                <a:cubicBezTo>
                  <a:pt x="21819" y="6549"/>
                  <a:pt x="21699" y="6555"/>
                  <a:pt x="21605" y="6548"/>
                </a:cubicBezTo>
              </a:path>
              <a:path w="1415" h="1985">
                <a:moveTo>
                  <a:pt x="22126" y="6226"/>
                </a:moveTo>
                <a:cubicBezTo>
                  <a:pt x="22079" y="6327"/>
                  <a:pt x="22068" y="6340"/>
                  <a:pt x="22101" y="6449"/>
                </a:cubicBezTo>
                <a:cubicBezTo>
                  <a:pt x="22142" y="6442"/>
                  <a:pt x="22389" y="6356"/>
                  <a:pt x="22250" y="6300"/>
                </a:cubicBezTo>
                <a:cubicBezTo>
                  <a:pt x="22158" y="6278"/>
                  <a:pt x="22133" y="6267"/>
                  <a:pt x="22076" y="6300"/>
                </a:cubicBezTo>
              </a:path>
              <a:path w="1415" h="1985">
                <a:moveTo>
                  <a:pt x="21109" y="7689"/>
                </a:moveTo>
                <a:cubicBezTo>
                  <a:pt x="21136" y="7580"/>
                  <a:pt x="21259" y="7492"/>
                  <a:pt x="21382" y="7565"/>
                </a:cubicBezTo>
                <a:cubicBezTo>
                  <a:pt x="21398" y="7590"/>
                  <a:pt x="21415" y="7615"/>
                  <a:pt x="21431" y="7640"/>
                </a:cubicBezTo>
                <a:cubicBezTo>
                  <a:pt x="21351" y="7749"/>
                  <a:pt x="21284" y="7821"/>
                  <a:pt x="21183" y="7913"/>
                </a:cubicBezTo>
                <a:cubicBezTo>
                  <a:pt x="21198" y="7868"/>
                  <a:pt x="21317" y="7871"/>
                  <a:pt x="21357" y="7913"/>
                </a:cubicBezTo>
                <a:cubicBezTo>
                  <a:pt x="21499" y="8062"/>
                  <a:pt x="21146" y="8201"/>
                  <a:pt x="21059" y="8210"/>
                </a:cubicBezTo>
                <a:cubicBezTo>
                  <a:pt x="20985" y="8186"/>
                  <a:pt x="20960" y="8177"/>
                  <a:pt x="21010" y="8111"/>
                </a:cubicBezTo>
              </a:path>
              <a:path w="1415" h="1985">
                <a:moveTo>
                  <a:pt x="21679" y="7615"/>
                </a:moveTo>
                <a:cubicBezTo>
                  <a:pt x="21583" y="7817"/>
                  <a:pt x="21541" y="7922"/>
                  <a:pt x="21654" y="8111"/>
                </a:cubicBezTo>
                <a:cubicBezTo>
                  <a:pt x="21833" y="8111"/>
                  <a:pt x="21989" y="7993"/>
                  <a:pt x="21927" y="7764"/>
                </a:cubicBezTo>
                <a:cubicBezTo>
                  <a:pt x="21890" y="7629"/>
                  <a:pt x="21757" y="7649"/>
                  <a:pt x="21654" y="7615"/>
                </a:cubicBezTo>
              </a:path>
              <a:path w="1415" h="1985">
                <a:moveTo>
                  <a:pt x="22101" y="7342"/>
                </a:moveTo>
                <a:cubicBezTo>
                  <a:pt x="22068" y="7399"/>
                  <a:pt x="22058" y="7449"/>
                  <a:pt x="22051" y="7516"/>
                </a:cubicBezTo>
                <a:cubicBezTo>
                  <a:pt x="22101" y="7520"/>
                  <a:pt x="22409" y="7441"/>
                  <a:pt x="22250" y="7342"/>
                </a:cubicBezTo>
                <a:cubicBezTo>
                  <a:pt x="22201" y="7311"/>
                  <a:pt x="22068" y="7342"/>
                  <a:pt x="22126" y="73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47040" y="2197080"/>
            <a:ext cx="430200" cy="687240"/>
          </a:xfrm>
          <a:custGeom>
            <a:avLst/>
            <a:gdLst/>
            <a:ahLst/>
            <a:rect l="l" t="t" r="r" b="b"/>
            <a:pathLst>
              <a:path w="1192" h="1911">
                <a:moveTo>
                  <a:pt x="23763" y="6499"/>
                </a:moveTo>
                <a:cubicBezTo>
                  <a:pt x="23825" y="6406"/>
                  <a:pt x="23542" y="6537"/>
                  <a:pt x="23515" y="6548"/>
                </a:cubicBezTo>
                <a:cubicBezTo>
                  <a:pt x="23498" y="6556"/>
                  <a:pt x="23482" y="6565"/>
                  <a:pt x="23465" y="6573"/>
                </a:cubicBezTo>
                <a:cubicBezTo>
                  <a:pt x="23564" y="6689"/>
                  <a:pt x="23829" y="6839"/>
                  <a:pt x="23738" y="7020"/>
                </a:cubicBezTo>
                <a:cubicBezTo>
                  <a:pt x="23660" y="7072"/>
                  <a:pt x="23631" y="7087"/>
                  <a:pt x="23564" y="7045"/>
                </a:cubicBezTo>
                <a:cubicBezTo>
                  <a:pt x="23551" y="6841"/>
                  <a:pt x="23658" y="6695"/>
                  <a:pt x="23812" y="6548"/>
                </a:cubicBezTo>
                <a:cubicBezTo>
                  <a:pt x="23828" y="6533"/>
                  <a:pt x="23829" y="6548"/>
                  <a:pt x="23763" y="6548"/>
                </a:cubicBezTo>
              </a:path>
              <a:path w="1192" h="1911">
                <a:moveTo>
                  <a:pt x="24036" y="6474"/>
                </a:moveTo>
                <a:cubicBezTo>
                  <a:pt x="24010" y="6629"/>
                  <a:pt x="23945" y="6731"/>
                  <a:pt x="23986" y="6896"/>
                </a:cubicBezTo>
                <a:cubicBezTo>
                  <a:pt x="24035" y="6992"/>
                  <a:pt x="24048" y="7025"/>
                  <a:pt x="24135" y="7020"/>
                </a:cubicBezTo>
                <a:cubicBezTo>
                  <a:pt x="24315" y="6891"/>
                  <a:pt x="24335" y="6734"/>
                  <a:pt x="24160" y="6548"/>
                </a:cubicBezTo>
                <a:cubicBezTo>
                  <a:pt x="24087" y="6512"/>
                  <a:pt x="24082" y="6495"/>
                  <a:pt x="24036" y="6499"/>
                </a:cubicBezTo>
              </a:path>
              <a:path w="1192" h="1911">
                <a:moveTo>
                  <a:pt x="24408" y="6127"/>
                </a:moveTo>
                <a:cubicBezTo>
                  <a:pt x="24314" y="6164"/>
                  <a:pt x="24314" y="6212"/>
                  <a:pt x="24333" y="6300"/>
                </a:cubicBezTo>
                <a:cubicBezTo>
                  <a:pt x="24459" y="6279"/>
                  <a:pt x="24522" y="6257"/>
                  <a:pt x="24507" y="6127"/>
                </a:cubicBezTo>
                <a:cubicBezTo>
                  <a:pt x="24401" y="6109"/>
                  <a:pt x="24383" y="6077"/>
                  <a:pt x="24383" y="6176"/>
                </a:cubicBezTo>
              </a:path>
              <a:path w="1192" h="1911">
                <a:moveTo>
                  <a:pt x="23763" y="7466"/>
                </a:moveTo>
                <a:cubicBezTo>
                  <a:pt x="23763" y="7594"/>
                  <a:pt x="23768" y="7711"/>
                  <a:pt x="23788" y="7838"/>
                </a:cubicBezTo>
                <a:cubicBezTo>
                  <a:pt x="23800" y="7916"/>
                  <a:pt x="23812" y="7946"/>
                  <a:pt x="23812" y="8012"/>
                </a:cubicBezTo>
              </a:path>
              <a:path w="1192" h="1911">
                <a:moveTo>
                  <a:pt x="24110" y="7417"/>
                </a:moveTo>
                <a:cubicBezTo>
                  <a:pt x="23993" y="7545"/>
                  <a:pt x="23984" y="7710"/>
                  <a:pt x="24061" y="7888"/>
                </a:cubicBezTo>
                <a:cubicBezTo>
                  <a:pt x="24077" y="7905"/>
                  <a:pt x="24094" y="7921"/>
                  <a:pt x="24110" y="7938"/>
                </a:cubicBezTo>
                <a:cubicBezTo>
                  <a:pt x="24258" y="7881"/>
                  <a:pt x="24372" y="7831"/>
                  <a:pt x="24333" y="7640"/>
                </a:cubicBezTo>
                <a:cubicBezTo>
                  <a:pt x="24310" y="7525"/>
                  <a:pt x="24089" y="7492"/>
                  <a:pt x="24085" y="7466"/>
                </a:cubicBezTo>
                <a:cubicBezTo>
                  <a:pt x="24093" y="7458"/>
                  <a:pt x="24102" y="7449"/>
                  <a:pt x="24110" y="7441"/>
                </a:cubicBezTo>
              </a:path>
              <a:path w="1192" h="1911">
                <a:moveTo>
                  <a:pt x="24482" y="7243"/>
                </a:moveTo>
                <a:cubicBezTo>
                  <a:pt x="24438" y="7302"/>
                  <a:pt x="24459" y="7348"/>
                  <a:pt x="24482" y="7417"/>
                </a:cubicBezTo>
                <a:cubicBezTo>
                  <a:pt x="24519" y="7411"/>
                  <a:pt x="24774" y="7319"/>
                  <a:pt x="24631" y="7243"/>
                </a:cubicBezTo>
                <a:cubicBezTo>
                  <a:pt x="24606" y="7243"/>
                  <a:pt x="24582" y="7243"/>
                  <a:pt x="24557" y="72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44800" y="2598840"/>
            <a:ext cx="3554280" cy="71280"/>
          </a:xfrm>
          <a:custGeom>
            <a:avLst/>
            <a:gdLst/>
            <a:ahLst/>
            <a:rect l="l" t="t" r="r" b="b"/>
            <a:pathLst>
              <a:path w="9874" h="200">
                <a:moveTo>
                  <a:pt x="5705" y="7417"/>
                </a:moveTo>
                <a:cubicBezTo>
                  <a:pt x="5741" y="7409"/>
                  <a:pt x="5718" y="7395"/>
                  <a:pt x="5755" y="7392"/>
                </a:cubicBezTo>
                <a:cubicBezTo>
                  <a:pt x="5793" y="7389"/>
                  <a:pt x="5869" y="7393"/>
                  <a:pt x="5904" y="7392"/>
                </a:cubicBezTo>
                <a:cubicBezTo>
                  <a:pt x="6052" y="7389"/>
                  <a:pt x="6211" y="7364"/>
                  <a:pt x="6350" y="7367"/>
                </a:cubicBezTo>
                <a:cubicBezTo>
                  <a:pt x="6466" y="7370"/>
                  <a:pt x="6576" y="7398"/>
                  <a:pt x="6697" y="7392"/>
                </a:cubicBezTo>
                <a:cubicBezTo>
                  <a:pt x="6919" y="7381"/>
                  <a:pt x="7145" y="7351"/>
                  <a:pt x="7367" y="7342"/>
                </a:cubicBezTo>
                <a:cubicBezTo>
                  <a:pt x="7518" y="7336"/>
                  <a:pt x="7663" y="7323"/>
                  <a:pt x="7813" y="7317"/>
                </a:cubicBezTo>
                <a:cubicBezTo>
                  <a:pt x="8193" y="7303"/>
                  <a:pt x="8575" y="7297"/>
                  <a:pt x="8954" y="7293"/>
                </a:cubicBezTo>
                <a:cubicBezTo>
                  <a:pt x="9501" y="7287"/>
                  <a:pt x="10047" y="7268"/>
                  <a:pt x="10592" y="7268"/>
                </a:cubicBezTo>
                <a:cubicBezTo>
                  <a:pt x="10811" y="7268"/>
                  <a:pt x="11042" y="7261"/>
                  <a:pt x="11261" y="7243"/>
                </a:cubicBezTo>
                <a:cubicBezTo>
                  <a:pt x="11510" y="7222"/>
                  <a:pt x="11754" y="7218"/>
                  <a:pt x="12005" y="7218"/>
                </a:cubicBezTo>
                <a:cubicBezTo>
                  <a:pt x="13041" y="7218"/>
                  <a:pt x="14099" y="7300"/>
                  <a:pt x="15131" y="7243"/>
                </a:cubicBezTo>
                <a:cubicBezTo>
                  <a:pt x="15271" y="7235"/>
                  <a:pt x="15411" y="7222"/>
                  <a:pt x="15553" y="72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howcard Gothic"/>
              </a:rPr>
              <a:t>Supplementary Angles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pplementary Angl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Angles whose sum is 180 degre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62120" y="3200400"/>
            <a:ext cx="4066920" cy="1361880"/>
            <a:chOff x="762120" y="3200400"/>
            <a:chExt cx="4066920" cy="1361880"/>
          </a:xfrm>
        </p:grpSpPr>
        <p:grpSp>
          <p:nvGrpSpPr>
            <p:cNvPr id="228" name=""/>
            <p:cNvGrpSpPr/>
            <p:nvPr/>
          </p:nvGrpSpPr>
          <p:grpSpPr>
            <a:xfrm>
              <a:off x="762120" y="3200400"/>
              <a:ext cx="4066920" cy="1361880"/>
              <a:chOff x="762120" y="3200400"/>
              <a:chExt cx="4066920" cy="1361880"/>
            </a:xfrm>
          </p:grpSpPr>
          <p:pic>
            <p:nvPicPr>
              <p:cNvPr id="2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4267080"/>
                <a:ext cx="406692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"/>
              <p:cNvSpPr/>
              <p:nvPr/>
            </p:nvSpPr>
            <p:spPr>
              <a:xfrm flipV="1">
                <a:off x="2743200" y="3200400"/>
                <a:ext cx="990000" cy="121896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1905120" y="3886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76720" y="3886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89640" y="5537160"/>
            <a:ext cx="9360" cy="1800"/>
          </a:xfrm>
          <a:custGeom>
            <a:avLst/>
            <a:gdLst/>
            <a:ahLst/>
            <a:rect l="l" t="t" r="r" b="b"/>
            <a:pathLst>
              <a:path w="25" h="1">
                <a:moveTo>
                  <a:pt x="12750" y="15379"/>
                </a:moveTo>
                <a:cubicBezTo>
                  <a:pt x="12758" y="15379"/>
                  <a:pt x="12766" y="15379"/>
                  <a:pt x="12774" y="153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28800" y="2608200"/>
            <a:ext cx="1920600" cy="44640"/>
          </a:xfrm>
          <a:custGeom>
            <a:avLst/>
            <a:gdLst/>
            <a:ahLst/>
            <a:rect l="l" t="t" r="r" b="b"/>
            <a:pathLst>
              <a:path w="5334" h="125">
                <a:moveTo>
                  <a:pt x="2580" y="7317"/>
                </a:moveTo>
                <a:cubicBezTo>
                  <a:pt x="2706" y="7311"/>
                  <a:pt x="2825" y="7295"/>
                  <a:pt x="2952" y="7293"/>
                </a:cubicBezTo>
                <a:cubicBezTo>
                  <a:pt x="3142" y="7289"/>
                  <a:pt x="3311" y="7260"/>
                  <a:pt x="3497" y="7243"/>
                </a:cubicBezTo>
                <a:cubicBezTo>
                  <a:pt x="3926" y="7205"/>
                  <a:pt x="4365" y="7266"/>
                  <a:pt x="4787" y="7293"/>
                </a:cubicBezTo>
                <a:cubicBezTo>
                  <a:pt x="4885" y="7299"/>
                  <a:pt x="4990" y="7312"/>
                  <a:pt x="5085" y="7317"/>
                </a:cubicBezTo>
                <a:cubicBezTo>
                  <a:pt x="5259" y="7326"/>
                  <a:pt x="5433" y="7338"/>
                  <a:pt x="5606" y="7342"/>
                </a:cubicBezTo>
                <a:cubicBezTo>
                  <a:pt x="5930" y="7349"/>
                  <a:pt x="6252" y="7352"/>
                  <a:pt x="6573" y="7367"/>
                </a:cubicBezTo>
                <a:cubicBezTo>
                  <a:pt x="6822" y="7379"/>
                  <a:pt x="7070" y="7330"/>
                  <a:pt x="7317" y="7317"/>
                </a:cubicBezTo>
                <a:cubicBezTo>
                  <a:pt x="7476" y="7308"/>
                  <a:pt x="7632" y="7306"/>
                  <a:pt x="7789" y="7293"/>
                </a:cubicBezTo>
                <a:cubicBezTo>
                  <a:pt x="7830" y="7290"/>
                  <a:pt x="7872" y="7295"/>
                  <a:pt x="7913" y="72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87800" y="4687920"/>
            <a:ext cx="1251000" cy="142920"/>
          </a:xfrm>
          <a:custGeom>
            <a:avLst/>
            <a:gdLst/>
            <a:ahLst/>
            <a:rect l="l" t="t" r="r" b="b"/>
            <a:pathLst>
              <a:path w="3474" h="398">
                <a:moveTo>
                  <a:pt x="8880" y="13171"/>
                </a:moveTo>
                <a:cubicBezTo>
                  <a:pt x="8880" y="13130"/>
                  <a:pt x="8868" y="13158"/>
                  <a:pt x="8855" y="13122"/>
                </a:cubicBezTo>
              </a:path>
              <a:path w="3474" h="398">
                <a:moveTo>
                  <a:pt x="8855" y="13122"/>
                </a:moveTo>
                <a:lnTo>
                  <a:pt x="8855" y="13122"/>
                </a:lnTo>
              </a:path>
              <a:path w="3474" h="398">
                <a:moveTo>
                  <a:pt x="8855" y="13122"/>
                </a:moveTo>
                <a:lnTo>
                  <a:pt x="8855" y="13122"/>
                </a:lnTo>
              </a:path>
              <a:path w="3474" h="398">
                <a:moveTo>
                  <a:pt x="8855" y="13122"/>
                </a:moveTo>
                <a:lnTo>
                  <a:pt x="8855" y="13122"/>
                </a:lnTo>
              </a:path>
              <a:path w="3474" h="398">
                <a:moveTo>
                  <a:pt x="8880" y="13122"/>
                </a:moveTo>
                <a:lnTo>
                  <a:pt x="8880" y="13122"/>
                </a:lnTo>
              </a:path>
              <a:path w="3474" h="398">
                <a:moveTo>
                  <a:pt x="8880" y="13097"/>
                </a:moveTo>
                <a:lnTo>
                  <a:pt x="8880" y="13097"/>
                </a:lnTo>
              </a:path>
              <a:path w="3474" h="398">
                <a:moveTo>
                  <a:pt x="11435" y="13395"/>
                </a:moveTo>
                <a:cubicBezTo>
                  <a:pt x="11435" y="13387"/>
                  <a:pt x="11435" y="13378"/>
                  <a:pt x="11435" y="13370"/>
                </a:cubicBezTo>
              </a:path>
              <a:path w="3474" h="398">
                <a:moveTo>
                  <a:pt x="11460" y="13246"/>
                </a:moveTo>
                <a:cubicBezTo>
                  <a:pt x="11460" y="13238"/>
                  <a:pt x="11460" y="13229"/>
                  <a:pt x="11460" y="13221"/>
                </a:cubicBezTo>
              </a:path>
              <a:path w="3474" h="398">
                <a:moveTo>
                  <a:pt x="11534" y="13171"/>
                </a:moveTo>
                <a:cubicBezTo>
                  <a:pt x="11534" y="13163"/>
                  <a:pt x="11534" y="13154"/>
                  <a:pt x="11534" y="13146"/>
                </a:cubicBezTo>
              </a:path>
              <a:path w="3474" h="398">
                <a:moveTo>
                  <a:pt x="11534" y="13146"/>
                </a:moveTo>
                <a:lnTo>
                  <a:pt x="11534" y="13146"/>
                </a:lnTo>
              </a:path>
              <a:path w="3474" h="398">
                <a:moveTo>
                  <a:pt x="11931" y="13022"/>
                </a:moveTo>
                <a:cubicBezTo>
                  <a:pt x="11907" y="13113"/>
                  <a:pt x="11792" y="13393"/>
                  <a:pt x="11956" y="13419"/>
                </a:cubicBezTo>
                <a:cubicBezTo>
                  <a:pt x="12085" y="13439"/>
                  <a:pt x="12223" y="13352"/>
                  <a:pt x="12328" y="132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0800" y="4732200"/>
            <a:ext cx="474480" cy="849600"/>
          </a:xfrm>
          <a:custGeom>
            <a:avLst/>
            <a:gdLst/>
            <a:ahLst/>
            <a:rect l="l" t="t" r="r" b="b"/>
            <a:pathLst>
              <a:path w="1316" h="2358">
                <a:moveTo>
                  <a:pt x="2654" y="13395"/>
                </a:moveTo>
                <a:cubicBezTo>
                  <a:pt x="2683" y="13404"/>
                  <a:pt x="2726" y="13424"/>
                  <a:pt x="2679" y="13295"/>
                </a:cubicBezTo>
                <a:cubicBezTo>
                  <a:pt x="2662" y="13270"/>
                  <a:pt x="2646" y="13246"/>
                  <a:pt x="2629" y="13221"/>
                </a:cubicBezTo>
                <a:cubicBezTo>
                  <a:pt x="2455" y="13260"/>
                  <a:pt x="2130" y="13477"/>
                  <a:pt x="2282" y="13717"/>
                </a:cubicBezTo>
                <a:cubicBezTo>
                  <a:pt x="2394" y="13893"/>
                  <a:pt x="2599" y="13533"/>
                  <a:pt x="2629" y="13494"/>
                </a:cubicBezTo>
                <a:cubicBezTo>
                  <a:pt x="2649" y="13453"/>
                  <a:pt x="2658" y="13426"/>
                  <a:pt x="2654" y="13469"/>
                </a:cubicBezTo>
                <a:cubicBezTo>
                  <a:pt x="2637" y="13702"/>
                  <a:pt x="2372" y="14268"/>
                  <a:pt x="2580" y="14163"/>
                </a:cubicBezTo>
                <a:cubicBezTo>
                  <a:pt x="2605" y="14122"/>
                  <a:pt x="2629" y="14080"/>
                  <a:pt x="2654" y="14039"/>
                </a:cubicBezTo>
              </a:path>
              <a:path w="1316" h="2358">
                <a:moveTo>
                  <a:pt x="3001" y="13444"/>
                </a:moveTo>
                <a:cubicBezTo>
                  <a:pt x="2925" y="13683"/>
                  <a:pt x="2834" y="13881"/>
                  <a:pt x="2902" y="14114"/>
                </a:cubicBezTo>
                <a:cubicBezTo>
                  <a:pt x="3128" y="14011"/>
                  <a:pt x="3363" y="13836"/>
                  <a:pt x="3200" y="13543"/>
                </a:cubicBezTo>
                <a:cubicBezTo>
                  <a:pt x="3099" y="13442"/>
                  <a:pt x="3088" y="13390"/>
                  <a:pt x="3001" y="13444"/>
                </a:cubicBezTo>
              </a:path>
              <a:path w="1316" h="2358">
                <a:moveTo>
                  <a:pt x="2604" y="14734"/>
                </a:moveTo>
                <a:cubicBezTo>
                  <a:pt x="2604" y="14675"/>
                  <a:pt x="2601" y="14649"/>
                  <a:pt x="2580" y="14610"/>
                </a:cubicBezTo>
                <a:cubicBezTo>
                  <a:pt x="2426" y="14610"/>
                  <a:pt x="2325" y="14649"/>
                  <a:pt x="2307" y="14833"/>
                </a:cubicBezTo>
                <a:cubicBezTo>
                  <a:pt x="2328" y="14958"/>
                  <a:pt x="2313" y="15000"/>
                  <a:pt x="2406" y="15007"/>
                </a:cubicBezTo>
                <a:cubicBezTo>
                  <a:pt x="2490" y="14918"/>
                  <a:pt x="2563" y="14837"/>
                  <a:pt x="2629" y="14734"/>
                </a:cubicBezTo>
                <a:cubicBezTo>
                  <a:pt x="2629" y="14918"/>
                  <a:pt x="2572" y="15127"/>
                  <a:pt x="2530" y="15304"/>
                </a:cubicBezTo>
                <a:cubicBezTo>
                  <a:pt x="2512" y="15380"/>
                  <a:pt x="2430" y="15528"/>
                  <a:pt x="2505" y="15478"/>
                </a:cubicBezTo>
              </a:path>
              <a:path w="1316" h="2358">
                <a:moveTo>
                  <a:pt x="3026" y="14684"/>
                </a:moveTo>
                <a:cubicBezTo>
                  <a:pt x="2947" y="14843"/>
                  <a:pt x="2753" y="15113"/>
                  <a:pt x="2828" y="15304"/>
                </a:cubicBezTo>
                <a:cubicBezTo>
                  <a:pt x="2853" y="15321"/>
                  <a:pt x="2877" y="15337"/>
                  <a:pt x="2902" y="15354"/>
                </a:cubicBezTo>
                <a:cubicBezTo>
                  <a:pt x="3081" y="15269"/>
                  <a:pt x="3284" y="15070"/>
                  <a:pt x="3125" y="14833"/>
                </a:cubicBezTo>
                <a:cubicBezTo>
                  <a:pt x="3036" y="14789"/>
                  <a:pt x="3013" y="14769"/>
                  <a:pt x="2952" y="14808"/>
                </a:cubicBezTo>
              </a:path>
              <a:path w="1316" h="2358">
                <a:moveTo>
                  <a:pt x="3473" y="14536"/>
                </a:moveTo>
                <a:cubicBezTo>
                  <a:pt x="3372" y="14536"/>
                  <a:pt x="3376" y="14628"/>
                  <a:pt x="3349" y="14709"/>
                </a:cubicBezTo>
                <a:cubicBezTo>
                  <a:pt x="3381" y="14709"/>
                  <a:pt x="3617" y="14685"/>
                  <a:pt x="3522" y="14585"/>
                </a:cubicBezTo>
                <a:cubicBezTo>
                  <a:pt x="3489" y="14569"/>
                  <a:pt x="3456" y="14552"/>
                  <a:pt x="3423" y="14536"/>
                </a:cubicBezTo>
              </a:path>
              <a:path w="1316" h="2358">
                <a:moveTo>
                  <a:pt x="3497" y="13171"/>
                </a:moveTo>
                <a:cubicBezTo>
                  <a:pt x="3410" y="13193"/>
                  <a:pt x="3432" y="13280"/>
                  <a:pt x="3448" y="13345"/>
                </a:cubicBezTo>
                <a:cubicBezTo>
                  <a:pt x="3503" y="13333"/>
                  <a:pt x="3689" y="13254"/>
                  <a:pt x="3572" y="13171"/>
                </a:cubicBezTo>
                <a:cubicBezTo>
                  <a:pt x="3547" y="13163"/>
                  <a:pt x="3522" y="13154"/>
                  <a:pt x="3497" y="131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03240" y="4687920"/>
            <a:ext cx="509760" cy="760320"/>
          </a:xfrm>
          <a:custGeom>
            <a:avLst/>
            <a:gdLst/>
            <a:ahLst/>
            <a:rect l="l" t="t" r="r" b="b"/>
            <a:pathLst>
              <a:path w="1414" h="2110">
                <a:moveTo>
                  <a:pt x="5011" y="13419"/>
                </a:moveTo>
                <a:cubicBezTo>
                  <a:pt x="5039" y="13382"/>
                  <a:pt x="5035" y="13367"/>
                  <a:pt x="5035" y="13320"/>
                </a:cubicBezTo>
                <a:cubicBezTo>
                  <a:pt x="5035" y="13320"/>
                  <a:pt x="5020" y="13634"/>
                  <a:pt x="5011" y="13816"/>
                </a:cubicBezTo>
                <a:cubicBezTo>
                  <a:pt x="5011" y="13890"/>
                  <a:pt x="5011" y="13948"/>
                  <a:pt x="5011" y="13891"/>
                </a:cubicBezTo>
              </a:path>
              <a:path w="1414" h="2110">
                <a:moveTo>
                  <a:pt x="5283" y="13221"/>
                </a:moveTo>
                <a:cubicBezTo>
                  <a:pt x="5440" y="13168"/>
                  <a:pt x="5543" y="13130"/>
                  <a:pt x="5705" y="13171"/>
                </a:cubicBezTo>
                <a:cubicBezTo>
                  <a:pt x="5690" y="13370"/>
                  <a:pt x="5536" y="13704"/>
                  <a:pt x="5581" y="13891"/>
                </a:cubicBezTo>
                <a:cubicBezTo>
                  <a:pt x="5598" y="13883"/>
                  <a:pt x="5614" y="13874"/>
                  <a:pt x="5631" y="13866"/>
                </a:cubicBezTo>
              </a:path>
              <a:path w="1414" h="2110">
                <a:moveTo>
                  <a:pt x="6325" y="13196"/>
                </a:moveTo>
                <a:cubicBezTo>
                  <a:pt x="6325" y="13128"/>
                  <a:pt x="6321" y="13085"/>
                  <a:pt x="6300" y="13022"/>
                </a:cubicBezTo>
                <a:cubicBezTo>
                  <a:pt x="6223" y="13040"/>
                  <a:pt x="5729" y="13247"/>
                  <a:pt x="5928" y="13419"/>
                </a:cubicBezTo>
                <a:cubicBezTo>
                  <a:pt x="6062" y="13535"/>
                  <a:pt x="6240" y="13217"/>
                  <a:pt x="6300" y="13146"/>
                </a:cubicBezTo>
                <a:cubicBezTo>
                  <a:pt x="6285" y="13380"/>
                  <a:pt x="6061" y="14029"/>
                  <a:pt x="6201" y="13841"/>
                </a:cubicBezTo>
                <a:cubicBezTo>
                  <a:pt x="6226" y="13791"/>
                  <a:pt x="6251" y="13742"/>
                  <a:pt x="6276" y="13692"/>
                </a:cubicBezTo>
              </a:path>
              <a:path w="1414" h="2110">
                <a:moveTo>
                  <a:pt x="6400" y="14412"/>
                </a:moveTo>
                <a:cubicBezTo>
                  <a:pt x="6400" y="14253"/>
                  <a:pt x="6348" y="14675"/>
                  <a:pt x="6325" y="14833"/>
                </a:cubicBezTo>
                <a:cubicBezTo>
                  <a:pt x="6308" y="14953"/>
                  <a:pt x="6254" y="15204"/>
                  <a:pt x="6325" y="15106"/>
                </a:cubicBezTo>
                <a:cubicBezTo>
                  <a:pt x="6358" y="15056"/>
                  <a:pt x="6391" y="15007"/>
                  <a:pt x="6424" y="149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01920" y="4653000"/>
            <a:ext cx="98280" cy="507960"/>
          </a:xfrm>
          <a:custGeom>
            <a:avLst/>
            <a:gdLst/>
            <a:ahLst/>
            <a:rect l="l" t="t" r="r" b="b"/>
            <a:pathLst>
              <a:path w="274" h="1415">
                <a:moveTo>
                  <a:pt x="6722" y="12923"/>
                </a:moveTo>
                <a:cubicBezTo>
                  <a:pt x="6670" y="13010"/>
                  <a:pt x="6666" y="13020"/>
                  <a:pt x="6697" y="13122"/>
                </a:cubicBezTo>
                <a:cubicBezTo>
                  <a:pt x="6752" y="13085"/>
                  <a:pt x="6921" y="12966"/>
                  <a:pt x="6772" y="12923"/>
                </a:cubicBezTo>
                <a:cubicBezTo>
                  <a:pt x="6747" y="12923"/>
                  <a:pt x="6722" y="12923"/>
                  <a:pt x="6697" y="12923"/>
                </a:cubicBezTo>
              </a:path>
              <a:path w="274" h="1415">
                <a:moveTo>
                  <a:pt x="6921" y="14089"/>
                </a:moveTo>
                <a:cubicBezTo>
                  <a:pt x="6832" y="14111"/>
                  <a:pt x="6816" y="14230"/>
                  <a:pt x="6796" y="14312"/>
                </a:cubicBezTo>
                <a:cubicBezTo>
                  <a:pt x="6796" y="14320"/>
                  <a:pt x="6796" y="14329"/>
                  <a:pt x="6796" y="14337"/>
                </a:cubicBezTo>
                <a:cubicBezTo>
                  <a:pt x="6905" y="14265"/>
                  <a:pt x="6996" y="14215"/>
                  <a:pt x="6871" y="14139"/>
                </a:cubicBezTo>
                <a:cubicBezTo>
                  <a:pt x="6854" y="14131"/>
                  <a:pt x="6838" y="14122"/>
                  <a:pt x="6821" y="141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4240" y="4643280"/>
            <a:ext cx="544680" cy="812880"/>
          </a:xfrm>
          <a:custGeom>
            <a:avLst/>
            <a:gdLst/>
            <a:ahLst/>
            <a:rect l="l" t="t" r="r" b="b"/>
            <a:pathLst>
              <a:path w="1514" h="2259">
                <a:moveTo>
                  <a:pt x="8657" y="13122"/>
                </a:moveTo>
                <a:cubicBezTo>
                  <a:pt x="8567" y="13054"/>
                  <a:pt x="8598" y="13198"/>
                  <a:pt x="8582" y="13295"/>
                </a:cubicBezTo>
                <a:cubicBezTo>
                  <a:pt x="8573" y="13349"/>
                  <a:pt x="8476" y="13759"/>
                  <a:pt x="8508" y="13791"/>
                </a:cubicBezTo>
                <a:cubicBezTo>
                  <a:pt x="8597" y="13704"/>
                  <a:pt x="8643" y="13641"/>
                  <a:pt x="8682" y="13543"/>
                </a:cubicBezTo>
              </a:path>
              <a:path w="1514" h="2259">
                <a:moveTo>
                  <a:pt x="8880" y="13097"/>
                </a:moveTo>
                <a:cubicBezTo>
                  <a:pt x="8849" y="13249"/>
                  <a:pt x="8812" y="13382"/>
                  <a:pt x="8806" y="13543"/>
                </a:cubicBezTo>
                <a:cubicBezTo>
                  <a:pt x="8802" y="13640"/>
                  <a:pt x="8806" y="13667"/>
                  <a:pt x="8781" y="13742"/>
                </a:cubicBezTo>
                <a:cubicBezTo>
                  <a:pt x="8741" y="13862"/>
                  <a:pt x="8757" y="13876"/>
                  <a:pt x="8855" y="13767"/>
                </a:cubicBezTo>
              </a:path>
              <a:path w="1514" h="2259">
                <a:moveTo>
                  <a:pt x="9302" y="13146"/>
                </a:moveTo>
                <a:cubicBezTo>
                  <a:pt x="9228" y="13123"/>
                  <a:pt x="9134" y="13326"/>
                  <a:pt x="9103" y="13419"/>
                </a:cubicBezTo>
                <a:cubicBezTo>
                  <a:pt x="9073" y="13508"/>
                  <a:pt x="9038" y="13697"/>
                  <a:pt x="9128" y="13767"/>
                </a:cubicBezTo>
                <a:cubicBezTo>
                  <a:pt x="9225" y="13842"/>
                  <a:pt x="9350" y="13718"/>
                  <a:pt x="9401" y="13643"/>
                </a:cubicBezTo>
                <a:cubicBezTo>
                  <a:pt x="9462" y="13553"/>
                  <a:pt x="9501" y="13346"/>
                  <a:pt x="9451" y="13246"/>
                </a:cubicBezTo>
                <a:cubicBezTo>
                  <a:pt x="9426" y="13196"/>
                  <a:pt x="9330" y="13128"/>
                  <a:pt x="9277" y="13122"/>
                </a:cubicBezTo>
                <a:cubicBezTo>
                  <a:pt x="9269" y="13122"/>
                  <a:pt x="9260" y="13122"/>
                  <a:pt x="9252" y="13122"/>
                </a:cubicBezTo>
              </a:path>
              <a:path w="1514" h="2259">
                <a:moveTo>
                  <a:pt x="9798" y="12923"/>
                </a:moveTo>
                <a:cubicBezTo>
                  <a:pt x="9765" y="12989"/>
                  <a:pt x="9732" y="13055"/>
                  <a:pt x="9699" y="13122"/>
                </a:cubicBezTo>
                <a:cubicBezTo>
                  <a:pt x="9796" y="13159"/>
                  <a:pt x="10003" y="13162"/>
                  <a:pt x="9971" y="12973"/>
                </a:cubicBezTo>
                <a:cubicBezTo>
                  <a:pt x="9920" y="12921"/>
                  <a:pt x="9901" y="12903"/>
                  <a:pt x="9847" y="12898"/>
                </a:cubicBezTo>
              </a:path>
              <a:path w="1514" h="2259">
                <a:moveTo>
                  <a:pt x="8830" y="14312"/>
                </a:moveTo>
                <a:cubicBezTo>
                  <a:pt x="8847" y="14390"/>
                  <a:pt x="8836" y="14447"/>
                  <a:pt x="8830" y="14536"/>
                </a:cubicBezTo>
                <a:cubicBezTo>
                  <a:pt x="8830" y="14447"/>
                  <a:pt x="8805" y="14319"/>
                  <a:pt x="8930" y="14312"/>
                </a:cubicBezTo>
                <a:cubicBezTo>
                  <a:pt x="9044" y="14306"/>
                  <a:pt x="9097" y="14357"/>
                  <a:pt x="9203" y="14312"/>
                </a:cubicBezTo>
                <a:cubicBezTo>
                  <a:pt x="9175" y="14531"/>
                  <a:pt x="9090" y="14779"/>
                  <a:pt x="9004" y="14982"/>
                </a:cubicBezTo>
                <a:cubicBezTo>
                  <a:pt x="8959" y="15088"/>
                  <a:pt x="8842" y="15209"/>
                  <a:pt x="9004" y="15081"/>
                </a:cubicBezTo>
              </a:path>
              <a:path w="1514" h="2259">
                <a:moveTo>
                  <a:pt x="9575" y="14288"/>
                </a:moveTo>
                <a:cubicBezTo>
                  <a:pt x="9489" y="14471"/>
                  <a:pt x="9381" y="14676"/>
                  <a:pt x="9376" y="14883"/>
                </a:cubicBezTo>
                <a:cubicBezTo>
                  <a:pt x="9384" y="14908"/>
                  <a:pt x="9393" y="14932"/>
                  <a:pt x="9401" y="14957"/>
                </a:cubicBezTo>
                <a:cubicBezTo>
                  <a:pt x="9621" y="14926"/>
                  <a:pt x="9704" y="14825"/>
                  <a:pt x="9674" y="14585"/>
                </a:cubicBezTo>
                <a:cubicBezTo>
                  <a:pt x="9662" y="14488"/>
                  <a:pt x="9621" y="14404"/>
                  <a:pt x="9550" y="14362"/>
                </a:cubicBezTo>
              </a:path>
              <a:path w="1514" h="2259">
                <a:moveTo>
                  <a:pt x="9922" y="14064"/>
                </a:moveTo>
                <a:cubicBezTo>
                  <a:pt x="9892" y="14102"/>
                  <a:pt x="9775" y="14232"/>
                  <a:pt x="9847" y="14263"/>
                </a:cubicBezTo>
                <a:cubicBezTo>
                  <a:pt x="9909" y="14290"/>
                  <a:pt x="10119" y="14157"/>
                  <a:pt x="9897" y="141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62240" y="4687920"/>
            <a:ext cx="179640" cy="750960"/>
          </a:xfrm>
          <a:custGeom>
            <a:avLst/>
            <a:gdLst/>
            <a:ahLst/>
            <a:rect l="l" t="t" r="r" b="b"/>
            <a:pathLst>
              <a:path w="497" h="2085">
                <a:moveTo>
                  <a:pt x="11584" y="13122"/>
                </a:moveTo>
                <a:cubicBezTo>
                  <a:pt x="11619" y="13095"/>
                  <a:pt x="11614" y="13097"/>
                  <a:pt x="11658" y="13097"/>
                </a:cubicBezTo>
                <a:cubicBezTo>
                  <a:pt x="11611" y="13050"/>
                  <a:pt x="11324" y="13111"/>
                  <a:pt x="11286" y="13196"/>
                </a:cubicBezTo>
                <a:cubicBezTo>
                  <a:pt x="11202" y="13381"/>
                  <a:pt x="11857" y="13381"/>
                  <a:pt x="11708" y="13568"/>
                </a:cubicBezTo>
                <a:cubicBezTo>
                  <a:pt x="11564" y="13640"/>
                  <a:pt x="11521" y="13665"/>
                  <a:pt x="11410" y="13643"/>
                </a:cubicBezTo>
                <a:cubicBezTo>
                  <a:pt x="11452" y="13433"/>
                  <a:pt x="11691" y="13246"/>
                  <a:pt x="11683" y="13047"/>
                </a:cubicBezTo>
                <a:cubicBezTo>
                  <a:pt x="11666" y="13039"/>
                  <a:pt x="11650" y="13030"/>
                  <a:pt x="11633" y="13022"/>
                </a:cubicBezTo>
              </a:path>
              <a:path w="497" h="2085">
                <a:moveTo>
                  <a:pt x="11782" y="14511"/>
                </a:moveTo>
                <a:cubicBezTo>
                  <a:pt x="11772" y="14429"/>
                  <a:pt x="11746" y="14326"/>
                  <a:pt x="11683" y="14263"/>
                </a:cubicBezTo>
                <a:cubicBezTo>
                  <a:pt x="11517" y="14096"/>
                  <a:pt x="11379" y="14378"/>
                  <a:pt x="11311" y="14486"/>
                </a:cubicBezTo>
                <a:cubicBezTo>
                  <a:pt x="11469" y="14612"/>
                  <a:pt x="11626" y="14631"/>
                  <a:pt x="11757" y="14412"/>
                </a:cubicBezTo>
                <a:cubicBezTo>
                  <a:pt x="11757" y="14395"/>
                  <a:pt x="11757" y="14379"/>
                  <a:pt x="11757" y="14362"/>
                </a:cubicBezTo>
                <a:cubicBezTo>
                  <a:pt x="11737" y="14570"/>
                  <a:pt x="11733" y="14772"/>
                  <a:pt x="11733" y="14982"/>
                </a:cubicBezTo>
                <a:cubicBezTo>
                  <a:pt x="11733" y="15076"/>
                  <a:pt x="11712" y="15139"/>
                  <a:pt x="11757" y="150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75080" y="4633920"/>
            <a:ext cx="304920" cy="787320"/>
          </a:xfrm>
          <a:custGeom>
            <a:avLst/>
            <a:gdLst/>
            <a:ahLst/>
            <a:rect l="l" t="t" r="r" b="b"/>
            <a:pathLst>
              <a:path w="845" h="2183">
                <a:moveTo>
                  <a:pt x="12278" y="12948"/>
                </a:moveTo>
                <a:cubicBezTo>
                  <a:pt x="12278" y="13187"/>
                  <a:pt x="12234" y="13429"/>
                  <a:pt x="12254" y="13667"/>
                </a:cubicBezTo>
                <a:cubicBezTo>
                  <a:pt x="12283" y="13727"/>
                  <a:pt x="12297" y="13734"/>
                  <a:pt x="12328" y="13643"/>
                </a:cubicBezTo>
              </a:path>
              <a:path w="845" h="2183">
                <a:moveTo>
                  <a:pt x="12700" y="12898"/>
                </a:moveTo>
                <a:cubicBezTo>
                  <a:pt x="12670" y="12811"/>
                  <a:pt x="12602" y="12990"/>
                  <a:pt x="12650" y="13047"/>
                </a:cubicBezTo>
                <a:cubicBezTo>
                  <a:pt x="12715" y="13124"/>
                  <a:pt x="12804" y="12977"/>
                  <a:pt x="12824" y="12948"/>
                </a:cubicBezTo>
                <a:cubicBezTo>
                  <a:pt x="12792" y="12884"/>
                  <a:pt x="12769" y="12864"/>
                  <a:pt x="12700" y="12874"/>
                </a:cubicBezTo>
              </a:path>
              <a:path w="845" h="2183">
                <a:moveTo>
                  <a:pt x="12303" y="14288"/>
                </a:moveTo>
                <a:cubicBezTo>
                  <a:pt x="12272" y="14476"/>
                  <a:pt x="12158" y="14637"/>
                  <a:pt x="12154" y="14833"/>
                </a:cubicBezTo>
                <a:cubicBezTo>
                  <a:pt x="12179" y="14956"/>
                  <a:pt x="12187" y="14997"/>
                  <a:pt x="12254" y="15056"/>
                </a:cubicBezTo>
                <a:cubicBezTo>
                  <a:pt x="12478" y="15023"/>
                  <a:pt x="12534" y="14957"/>
                  <a:pt x="12650" y="14759"/>
                </a:cubicBezTo>
                <a:cubicBezTo>
                  <a:pt x="12526" y="14759"/>
                  <a:pt x="12404" y="14803"/>
                  <a:pt x="12353" y="14932"/>
                </a:cubicBezTo>
                <a:cubicBezTo>
                  <a:pt x="12353" y="15023"/>
                  <a:pt x="12344" y="15057"/>
                  <a:pt x="12427" y="15032"/>
                </a:cubicBezTo>
              </a:path>
              <a:path w="845" h="2183">
                <a:moveTo>
                  <a:pt x="12874" y="14139"/>
                </a:moveTo>
                <a:cubicBezTo>
                  <a:pt x="12827" y="14174"/>
                  <a:pt x="12668" y="14357"/>
                  <a:pt x="12824" y="14387"/>
                </a:cubicBezTo>
                <a:cubicBezTo>
                  <a:pt x="12979" y="14417"/>
                  <a:pt x="13061" y="14257"/>
                  <a:pt x="12874" y="142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2" name="drumroll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howcard Gothic"/>
              </a:rPr>
              <a:t>Adjacent Angles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jacent Angl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Angles that share a common ray (sid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2371680" cy="2354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57160" y="2571840"/>
            <a:ext cx="3733920" cy="2367000"/>
          </a:xfrm>
          <a:custGeom>
            <a:avLst/>
            <a:gdLst/>
            <a:ahLst/>
            <a:rect l="l" t="t" r="r" b="b"/>
            <a:pathLst>
              <a:path w="10370" h="6574">
                <a:moveTo>
                  <a:pt x="3820" y="13717"/>
                </a:moveTo>
                <a:cubicBezTo>
                  <a:pt x="3828" y="13709"/>
                  <a:pt x="3837" y="13700"/>
                  <a:pt x="3845" y="13692"/>
                </a:cubicBezTo>
              </a:path>
              <a:path w="10370" h="6574">
                <a:moveTo>
                  <a:pt x="2381" y="9376"/>
                </a:moveTo>
                <a:cubicBezTo>
                  <a:pt x="2389" y="9376"/>
                  <a:pt x="2398" y="9376"/>
                  <a:pt x="2406" y="9376"/>
                </a:cubicBezTo>
              </a:path>
              <a:path w="10370" h="6574">
                <a:moveTo>
                  <a:pt x="2456" y="7565"/>
                </a:moveTo>
                <a:cubicBezTo>
                  <a:pt x="2506" y="7554"/>
                  <a:pt x="2642" y="7520"/>
                  <a:pt x="2729" y="7516"/>
                </a:cubicBezTo>
                <a:cubicBezTo>
                  <a:pt x="2898" y="7507"/>
                  <a:pt x="3058" y="7534"/>
                  <a:pt x="3225" y="7541"/>
                </a:cubicBezTo>
                <a:cubicBezTo>
                  <a:pt x="3590" y="7556"/>
                  <a:pt x="3954" y="7533"/>
                  <a:pt x="4316" y="7516"/>
                </a:cubicBezTo>
                <a:cubicBezTo>
                  <a:pt x="4597" y="7503"/>
                  <a:pt x="4877" y="7489"/>
                  <a:pt x="5159" y="7466"/>
                </a:cubicBezTo>
                <a:cubicBezTo>
                  <a:pt x="5565" y="7433"/>
                  <a:pt x="5969" y="7418"/>
                  <a:pt x="6375" y="7392"/>
                </a:cubicBezTo>
                <a:cubicBezTo>
                  <a:pt x="7285" y="7333"/>
                  <a:pt x="8191" y="7243"/>
                  <a:pt x="9103" y="7243"/>
                </a:cubicBezTo>
                <a:cubicBezTo>
                  <a:pt x="10049" y="7243"/>
                  <a:pt x="10986" y="7192"/>
                  <a:pt x="11931" y="7169"/>
                </a:cubicBezTo>
                <a:cubicBezTo>
                  <a:pt x="12077" y="7165"/>
                  <a:pt x="12643" y="7148"/>
                  <a:pt x="12725" y="71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83000" y="4857840"/>
            <a:ext cx="608040" cy="660240"/>
          </a:xfrm>
          <a:custGeom>
            <a:avLst/>
            <a:gdLst/>
            <a:ahLst/>
            <a:rect l="l" t="t" r="r" b="b"/>
            <a:pathLst>
              <a:path w="1688" h="1836">
                <a:moveTo>
                  <a:pt x="9674" y="14213"/>
                </a:moveTo>
                <a:cubicBezTo>
                  <a:pt x="9708" y="14224"/>
                  <a:pt x="9698" y="14247"/>
                  <a:pt x="9748" y="14238"/>
                </a:cubicBezTo>
                <a:cubicBezTo>
                  <a:pt x="9935" y="14205"/>
                  <a:pt x="10101" y="14181"/>
                  <a:pt x="10244" y="14337"/>
                </a:cubicBezTo>
                <a:cubicBezTo>
                  <a:pt x="10278" y="14374"/>
                  <a:pt x="10328" y="14489"/>
                  <a:pt x="10344" y="14536"/>
                </a:cubicBezTo>
              </a:path>
              <a:path w="1688" h="1836">
                <a:moveTo>
                  <a:pt x="10046" y="13767"/>
                </a:moveTo>
                <a:cubicBezTo>
                  <a:pt x="9983" y="13787"/>
                  <a:pt x="10062" y="13875"/>
                  <a:pt x="10071" y="13940"/>
                </a:cubicBezTo>
                <a:cubicBezTo>
                  <a:pt x="10071" y="13948"/>
                  <a:pt x="10071" y="13957"/>
                  <a:pt x="10071" y="13965"/>
                </a:cubicBezTo>
                <a:cubicBezTo>
                  <a:pt x="10053" y="13802"/>
                  <a:pt x="10052" y="13681"/>
                  <a:pt x="10071" y="13519"/>
                </a:cubicBezTo>
                <a:cubicBezTo>
                  <a:pt x="10071" y="13511"/>
                  <a:pt x="10071" y="13502"/>
                  <a:pt x="10071" y="13494"/>
                </a:cubicBezTo>
                <a:cubicBezTo>
                  <a:pt x="10192" y="13534"/>
                  <a:pt x="10269" y="13674"/>
                  <a:pt x="10319" y="13791"/>
                </a:cubicBezTo>
                <a:cubicBezTo>
                  <a:pt x="10338" y="13869"/>
                  <a:pt x="10330" y="13886"/>
                  <a:pt x="10368" y="13915"/>
                </a:cubicBezTo>
              </a:path>
              <a:path w="1688" h="1836">
                <a:moveTo>
                  <a:pt x="10096" y="13866"/>
                </a:moveTo>
                <a:cubicBezTo>
                  <a:pt x="10143" y="13837"/>
                  <a:pt x="10369" y="13669"/>
                  <a:pt x="10393" y="13717"/>
                </a:cubicBezTo>
              </a:path>
              <a:path w="1688" h="1836">
                <a:moveTo>
                  <a:pt x="10492" y="14709"/>
                </a:moveTo>
                <a:cubicBezTo>
                  <a:pt x="10442" y="14630"/>
                  <a:pt x="10557" y="14803"/>
                  <a:pt x="10567" y="14833"/>
                </a:cubicBezTo>
                <a:cubicBezTo>
                  <a:pt x="10607" y="14953"/>
                  <a:pt x="10666" y="15241"/>
                  <a:pt x="10517" y="15329"/>
                </a:cubicBezTo>
                <a:cubicBezTo>
                  <a:pt x="10517" y="15266"/>
                  <a:pt x="10544" y="15230"/>
                  <a:pt x="10616" y="15205"/>
                </a:cubicBezTo>
              </a:path>
              <a:path w="1688" h="1836">
                <a:moveTo>
                  <a:pt x="11013" y="14660"/>
                </a:moveTo>
                <a:cubicBezTo>
                  <a:pt x="11030" y="14776"/>
                  <a:pt x="11057" y="14888"/>
                  <a:pt x="11063" y="15007"/>
                </a:cubicBezTo>
                <a:cubicBezTo>
                  <a:pt x="11066" y="15060"/>
                  <a:pt x="11095" y="14945"/>
                  <a:pt x="11112" y="14908"/>
                </a:cubicBezTo>
              </a:path>
              <a:path w="1688" h="1836">
                <a:moveTo>
                  <a:pt x="10815" y="14635"/>
                </a:moveTo>
                <a:cubicBezTo>
                  <a:pt x="10846" y="14625"/>
                  <a:pt x="11309" y="14449"/>
                  <a:pt x="11261" y="14610"/>
                </a:cubicBezTo>
                <a:cubicBezTo>
                  <a:pt x="11246" y="14660"/>
                  <a:pt x="11178" y="14718"/>
                  <a:pt x="11137" y="14759"/>
                </a:cubicBezTo>
                <a:cubicBezTo>
                  <a:pt x="11205" y="14749"/>
                  <a:pt x="11267" y="14739"/>
                  <a:pt x="11336" y="14734"/>
                </a:cubicBezTo>
                <a:cubicBezTo>
                  <a:pt x="11336" y="14914"/>
                  <a:pt x="11243" y="14962"/>
                  <a:pt x="11063" y="15007"/>
                </a:cubicBezTo>
                <a:cubicBezTo>
                  <a:pt x="11055" y="15007"/>
                  <a:pt x="11046" y="15007"/>
                  <a:pt x="11038" y="150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11360" y="4357800"/>
            <a:ext cx="1714680" cy="1187280"/>
          </a:xfrm>
          <a:custGeom>
            <a:avLst/>
            <a:gdLst/>
            <a:ahLst/>
            <a:rect l="l" t="t" r="r" b="b"/>
            <a:pathLst>
              <a:path w="4764" h="3300">
                <a:moveTo>
                  <a:pt x="9475" y="15131"/>
                </a:moveTo>
                <a:cubicBezTo>
                  <a:pt x="9540" y="15087"/>
                  <a:pt x="9626" y="15031"/>
                  <a:pt x="9699" y="14982"/>
                </a:cubicBezTo>
                <a:cubicBezTo>
                  <a:pt x="9788" y="14923"/>
                  <a:pt x="9882" y="14857"/>
                  <a:pt x="9971" y="14808"/>
                </a:cubicBezTo>
                <a:cubicBezTo>
                  <a:pt x="10058" y="14760"/>
                  <a:pt x="10155" y="14730"/>
                  <a:pt x="10244" y="14684"/>
                </a:cubicBezTo>
                <a:cubicBezTo>
                  <a:pt x="10322" y="14643"/>
                  <a:pt x="10393" y="14605"/>
                  <a:pt x="10468" y="14560"/>
                </a:cubicBezTo>
                <a:cubicBezTo>
                  <a:pt x="10549" y="14511"/>
                  <a:pt x="10642" y="14471"/>
                  <a:pt x="10716" y="14412"/>
                </a:cubicBezTo>
                <a:cubicBezTo>
                  <a:pt x="10813" y="14334"/>
                  <a:pt x="10896" y="14279"/>
                  <a:pt x="11013" y="14213"/>
                </a:cubicBezTo>
                <a:cubicBezTo>
                  <a:pt x="11112" y="14157"/>
                  <a:pt x="11208" y="14114"/>
                  <a:pt x="11311" y="14064"/>
                </a:cubicBezTo>
                <a:cubicBezTo>
                  <a:pt x="11377" y="14032"/>
                  <a:pt x="11465" y="13966"/>
                  <a:pt x="11509" y="13940"/>
                </a:cubicBezTo>
                <a:cubicBezTo>
                  <a:pt x="11614" y="13877"/>
                  <a:pt x="11723" y="13823"/>
                  <a:pt x="11832" y="13767"/>
                </a:cubicBezTo>
                <a:cubicBezTo>
                  <a:pt x="11931" y="13717"/>
                  <a:pt x="12025" y="13642"/>
                  <a:pt x="12129" y="13593"/>
                </a:cubicBezTo>
                <a:cubicBezTo>
                  <a:pt x="12251" y="13536"/>
                  <a:pt x="12317" y="13485"/>
                  <a:pt x="12427" y="13419"/>
                </a:cubicBezTo>
                <a:cubicBezTo>
                  <a:pt x="12577" y="13329"/>
                  <a:pt x="12731" y="13251"/>
                  <a:pt x="12874" y="13146"/>
                </a:cubicBezTo>
                <a:cubicBezTo>
                  <a:pt x="13024" y="13036"/>
                  <a:pt x="13186" y="12923"/>
                  <a:pt x="13345" y="12824"/>
                </a:cubicBezTo>
                <a:cubicBezTo>
                  <a:pt x="13437" y="12767"/>
                  <a:pt x="13495" y="12717"/>
                  <a:pt x="13568" y="12650"/>
                </a:cubicBezTo>
                <a:cubicBezTo>
                  <a:pt x="13715" y="12515"/>
                  <a:pt x="13859" y="12379"/>
                  <a:pt x="14015" y="12254"/>
                </a:cubicBezTo>
                <a:cubicBezTo>
                  <a:pt x="14080" y="12202"/>
                  <a:pt x="14128" y="12178"/>
                  <a:pt x="14188" y="12129"/>
                </a:cubicBezTo>
                <a:cubicBezTo>
                  <a:pt x="14229" y="12109"/>
                  <a:pt x="14256" y="12101"/>
                  <a:pt x="14213" y="12105"/>
                </a:cubicBezTo>
                <a:cubicBezTo>
                  <a:pt x="14026" y="12272"/>
                  <a:pt x="13820" y="12402"/>
                  <a:pt x="13618" y="12551"/>
                </a:cubicBezTo>
                <a:cubicBezTo>
                  <a:pt x="13480" y="12653"/>
                  <a:pt x="13354" y="12768"/>
                  <a:pt x="13221" y="12874"/>
                </a:cubicBezTo>
                <a:cubicBezTo>
                  <a:pt x="13099" y="12971"/>
                  <a:pt x="12989" y="13068"/>
                  <a:pt x="12874" y="13171"/>
                </a:cubicBezTo>
                <a:cubicBezTo>
                  <a:pt x="12782" y="13253"/>
                  <a:pt x="12698" y="13352"/>
                  <a:pt x="12601" y="13419"/>
                </a:cubicBezTo>
                <a:cubicBezTo>
                  <a:pt x="12476" y="13505"/>
                  <a:pt x="12336" y="13571"/>
                  <a:pt x="12204" y="13643"/>
                </a:cubicBezTo>
                <a:cubicBezTo>
                  <a:pt x="12051" y="13727"/>
                  <a:pt x="11881" y="13803"/>
                  <a:pt x="11733" y="13891"/>
                </a:cubicBezTo>
                <a:cubicBezTo>
                  <a:pt x="11586" y="13979"/>
                  <a:pt x="11438" y="14083"/>
                  <a:pt x="11286" y="14163"/>
                </a:cubicBezTo>
                <a:cubicBezTo>
                  <a:pt x="11107" y="14257"/>
                  <a:pt x="10939" y="14356"/>
                  <a:pt x="10765" y="14461"/>
                </a:cubicBezTo>
                <a:cubicBezTo>
                  <a:pt x="10590" y="14567"/>
                  <a:pt x="10412" y="14667"/>
                  <a:pt x="10244" y="14784"/>
                </a:cubicBezTo>
                <a:cubicBezTo>
                  <a:pt x="10074" y="14902"/>
                  <a:pt x="9910" y="15031"/>
                  <a:pt x="9748" y="15156"/>
                </a:cubicBezTo>
                <a:cubicBezTo>
                  <a:pt x="9677" y="15211"/>
                  <a:pt x="9581" y="15287"/>
                  <a:pt x="9525" y="15354"/>
                </a:cubicBezTo>
                <a:cubicBezTo>
                  <a:pt x="9508" y="15374"/>
                  <a:pt x="9491" y="15386"/>
                  <a:pt x="9475" y="15404"/>
                </a:cubicBezTo>
                <a:cubicBezTo>
                  <a:pt x="9483" y="15404"/>
                  <a:pt x="9492" y="15404"/>
                  <a:pt x="9500" y="154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hammer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7:13:49Z</dcterms:created>
  <dc:creator>ccps</dc:creator>
  <dc:description/>
  <dc:language>en-US</dc:language>
  <cp:lastModifiedBy>demcgra</cp:lastModifiedBy>
  <dcterms:modified xsi:type="dcterms:W3CDTF">2012-01-24T16:32:48Z</dcterms:modified>
  <cp:revision>15</cp:revision>
  <dc:subject/>
  <dc:title>Obj 10.1:  To classify angles by their measure.</dc:title>
</cp:coreProperties>
</file>